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83B-20F1-49B8-8463-315793A1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ABF-86D2-4719-914E-995707E0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456-3EA8-499F-94B8-487D27F9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F0F-8B5A-4379-AFB1-4DFA986E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47B-2184-4DA3-AFAC-51E60C6A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27F-8AA6-4322-B58D-BD66B0C5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B14-0406-4C25-945C-24408C0E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0BF-A2A3-4D1A-B82D-90F42C27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7E6-40BB-41DB-9725-B52DABC5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D9C-89C3-4235-AD9E-2AFA9613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31E-AF96-4BB2-AE42-CB2D5449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46B-381C-4D0C-95ED-FAA4CAD5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5738-B10C-4C66-92C1-73798D92807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ybercenter.cl/" TargetMode="External"/><Relationship Id="rId3" Type="http://schemas.openxmlformats.org/officeDocument/2006/relationships/hyperlink" Target="http://www.cybercenter.cl/" TargetMode="External"/><Relationship Id="rId4" Type="http://schemas.openxmlformats.org/officeDocument/2006/relationships/hyperlink" Target="http://www.cybercenter.cl/" TargetMode="External"/><Relationship Id="rId5" Type="http://schemas.openxmlformats.org/officeDocument/2006/relationships/hyperlink" Target="http://www.cybercenter.cl/" TargetMode="External"/><Relationship Id="rId6" Type="http://schemas.openxmlformats.org/officeDocument/2006/relationships/hyperlink" Target="http://www.cybercenter.cl/" TargetMode="External"/><Relationship Id="rId7" Type="http://schemas.openxmlformats.org/officeDocument/2006/relationships/hyperlink" Target="http://www.cybercenter.cl/" TargetMode="External"/><Relationship Id="rId8" Type="http://schemas.openxmlformats.org/officeDocument/2006/relationships/hyperlink" Target="http://www.cybercenter.cl/" TargetMode="External"/><Relationship Id="rId9" Type="http://schemas.openxmlformats.org/officeDocument/2006/relationships/hyperlink" Target="http://www.cybercenter.cl/" TargetMode="External"/><Relationship Id="rId10" Type="http://schemas.openxmlformats.org/officeDocument/2006/relationships/hyperlink" Target="http://www.cybercenter.cl/" TargetMode="External"/><Relationship Id="rId11" Type="http://schemas.openxmlformats.org/officeDocument/2006/relationships/hyperlink" Target="http://www.cybercenter.cl/" TargetMode="External"/><Relationship Id="rId1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467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487404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17000" y="5943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%20SUBTEL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106668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496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48800" y="1555920"/>
              <a:ext cx="582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Abonados Móvile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30640" y="1898640"/>
              <a:ext cx="459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Diciembre de 2000: 3.401.525 abona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8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700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7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6080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8792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6400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9592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9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600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79960" y="3308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9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558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559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163600" y="3462480"/>
              <a:ext cx="218880" cy="1794960"/>
              <a:chOff x="2163600" y="3462480"/>
              <a:chExt cx="218880" cy="1794960"/>
            </a:xfrm>
          </p:grpSpPr>
          <p:sp>
            <p:nvSpPr>
              <p:cNvPr id="601" name=""/>
              <p:cNvSpPr/>
              <p:nvPr/>
            </p:nvSpPr>
            <p:spPr>
              <a:xfrm>
                <a:off x="21636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1866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19816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2120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23272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576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728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9068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1336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248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4792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5944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615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137040" y="3813120"/>
              <a:ext cx="215280" cy="1444320"/>
              <a:chOff x="3137040" y="3813120"/>
              <a:chExt cx="215280" cy="1444320"/>
            </a:xfrm>
          </p:grpSpPr>
          <p:sp>
            <p:nvSpPr>
              <p:cNvPr id="628" name=""/>
              <p:cNvSpPr/>
              <p:nvPr/>
            </p:nvSpPr>
            <p:spPr>
              <a:xfrm>
                <a:off x="3137040" y="3813120"/>
                <a:ext cx="2232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15936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70520" y="3813120"/>
                <a:ext cx="2268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93560" y="3813120"/>
                <a:ext cx="1116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04720" y="3813120"/>
                <a:ext cx="2268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227760" y="3813120"/>
                <a:ext cx="11160" cy="14443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38920" y="3813120"/>
                <a:ext cx="22680" cy="14443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61600" y="3813120"/>
                <a:ext cx="2232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4280" y="3813120"/>
                <a:ext cx="1152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95800" y="3813120"/>
                <a:ext cx="2232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31848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329640" y="3813120"/>
                <a:ext cx="2268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630600" y="3567240"/>
              <a:ext cx="218880" cy="1690560"/>
              <a:chOff x="3630600" y="3567240"/>
              <a:chExt cx="218880" cy="1690560"/>
            </a:xfrm>
          </p:grpSpPr>
          <p:sp>
            <p:nvSpPr>
              <p:cNvPr id="641" name=""/>
              <p:cNvSpPr/>
              <p:nvPr/>
            </p:nvSpPr>
            <p:spPr>
              <a:xfrm>
                <a:off x="3630600" y="3567240"/>
                <a:ext cx="11880" cy="16905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642480" y="3567240"/>
                <a:ext cx="24480" cy="16905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67320" y="3567240"/>
                <a:ext cx="11880" cy="16905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79560" y="3567240"/>
                <a:ext cx="24480" cy="16905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04040" y="3567240"/>
                <a:ext cx="11880" cy="16905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16280" y="3567240"/>
                <a:ext cx="24480" cy="16905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740760" y="3567240"/>
                <a:ext cx="10080" cy="1690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51200" y="3567240"/>
                <a:ext cx="24480" cy="16905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76040" y="3567240"/>
                <a:ext cx="11880" cy="16905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88280" y="3567240"/>
                <a:ext cx="24480" cy="16905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12760" y="3567240"/>
                <a:ext cx="11880" cy="16905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25000" y="3567240"/>
                <a:ext cx="24480" cy="16905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4110120" y="2590920"/>
              <a:ext cx="218520" cy="2650680"/>
              <a:chOff x="4110120" y="2590920"/>
              <a:chExt cx="218520" cy="2650680"/>
            </a:xfrm>
          </p:grpSpPr>
          <p:sp>
            <p:nvSpPr>
              <p:cNvPr id="654" name=""/>
              <p:cNvSpPr/>
              <p:nvPr/>
            </p:nvSpPr>
            <p:spPr>
              <a:xfrm>
                <a:off x="4110120" y="2590920"/>
                <a:ext cx="2268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32800" y="2590920"/>
                <a:ext cx="1152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4468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67360" y="2590920"/>
                <a:ext cx="1116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78880" y="2590920"/>
                <a:ext cx="2304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01920" y="2590920"/>
                <a:ext cx="11160" cy="26506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213440" y="2590920"/>
                <a:ext cx="23040" cy="26506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236840" y="2590920"/>
                <a:ext cx="2268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59520" y="2590920"/>
                <a:ext cx="1152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27140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94080" y="2590920"/>
                <a:ext cx="1116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05600" y="2590920"/>
                <a:ext cx="2304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4603680" y="3962520"/>
              <a:ext cx="218880" cy="1269360"/>
              <a:chOff x="4603680" y="3962520"/>
              <a:chExt cx="218880" cy="1269360"/>
            </a:xfrm>
          </p:grpSpPr>
          <p:sp>
            <p:nvSpPr>
              <p:cNvPr id="667" name=""/>
              <p:cNvSpPr/>
              <p:nvPr/>
            </p:nvSpPr>
            <p:spPr>
              <a:xfrm>
                <a:off x="4603680" y="3962520"/>
                <a:ext cx="11880" cy="12693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15560" y="3962520"/>
                <a:ext cx="24480" cy="12693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40400" y="3962520"/>
                <a:ext cx="11880" cy="12693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52640" y="3962520"/>
                <a:ext cx="24480" cy="12693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7120" y="3962520"/>
                <a:ext cx="11880" cy="12693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89360" y="3962520"/>
                <a:ext cx="24480" cy="12693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13840" y="3962520"/>
                <a:ext cx="11880" cy="12693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26080" y="3962520"/>
                <a:ext cx="22680" cy="12693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49120" y="3962520"/>
                <a:ext cx="11880" cy="12693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61360" y="3962520"/>
                <a:ext cx="24480" cy="12693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85840" y="3962520"/>
                <a:ext cx="11880" cy="12693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98080" y="3962520"/>
                <a:ext cx="24480" cy="12693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5083200" y="4191120"/>
              <a:ext cx="218520" cy="1032840"/>
              <a:chOff x="5083200" y="4191120"/>
              <a:chExt cx="218520" cy="1032840"/>
            </a:xfrm>
          </p:grpSpPr>
          <p:sp>
            <p:nvSpPr>
              <p:cNvPr id="681" name=""/>
              <p:cNvSpPr/>
              <p:nvPr/>
            </p:nvSpPr>
            <p:spPr>
              <a:xfrm>
                <a:off x="5083200" y="4191120"/>
                <a:ext cx="11880" cy="10328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095080" y="4191120"/>
                <a:ext cx="24120" cy="10328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19560" y="4191120"/>
                <a:ext cx="11880" cy="10328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131800" y="4191120"/>
                <a:ext cx="24120" cy="10328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56280" y="4191120"/>
                <a:ext cx="11880" cy="10328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68160" y="4191120"/>
                <a:ext cx="24120" cy="10328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92280" y="4191120"/>
                <a:ext cx="12240" cy="10328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04880" y="4191120"/>
                <a:ext cx="24120" cy="10328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29000" y="4191120"/>
                <a:ext cx="12240" cy="10328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241240" y="4191120"/>
                <a:ext cx="24120" cy="10328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265360" y="4191120"/>
                <a:ext cx="11880" cy="10328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77600" y="4191120"/>
                <a:ext cx="24120" cy="10328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564160" y="4114800"/>
              <a:ext cx="218880" cy="1142640"/>
              <a:chOff x="5564160" y="4114800"/>
              <a:chExt cx="218880" cy="1142640"/>
            </a:xfrm>
          </p:grpSpPr>
          <p:sp>
            <p:nvSpPr>
              <p:cNvPr id="694" name=""/>
              <p:cNvSpPr/>
              <p:nvPr/>
            </p:nvSpPr>
            <p:spPr>
              <a:xfrm>
                <a:off x="556416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8720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9872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6217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33640" y="4114800"/>
                <a:ext cx="2304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5668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68560" y="4114800"/>
                <a:ext cx="2304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9160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135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2544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4848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600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058080" y="4191120"/>
              <a:ext cx="218520" cy="1040760"/>
              <a:chOff x="6058080" y="4191120"/>
              <a:chExt cx="218520" cy="1040760"/>
            </a:xfrm>
          </p:grpSpPr>
          <p:sp>
            <p:nvSpPr>
              <p:cNvPr id="707" name=""/>
              <p:cNvSpPr/>
              <p:nvPr/>
            </p:nvSpPr>
            <p:spPr>
              <a:xfrm>
                <a:off x="6058080" y="4191120"/>
                <a:ext cx="10080" cy="10407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8160" y="4191120"/>
                <a:ext cx="24480" cy="10407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93000" y="4191120"/>
                <a:ext cx="11880" cy="10407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05240" y="4191120"/>
                <a:ext cx="24480" cy="10407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29720" y="4191120"/>
                <a:ext cx="11880" cy="10407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41960" y="4191120"/>
                <a:ext cx="24480" cy="10407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66800" y="4191120"/>
                <a:ext cx="11880" cy="10407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78680" y="4191120"/>
                <a:ext cx="24120" cy="10407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03160" y="4191120"/>
                <a:ext cx="12240" cy="10407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215760" y="4191120"/>
                <a:ext cx="24120" cy="10407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39880" y="4191120"/>
                <a:ext cx="12240" cy="10407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252480" y="4191120"/>
                <a:ext cx="24120" cy="10407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6058080" y="4319640"/>
              <a:ext cx="2188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031160" y="4419720"/>
              <a:ext cx="218520" cy="795240"/>
              <a:chOff x="7031160" y="4419720"/>
              <a:chExt cx="218520" cy="795240"/>
            </a:xfrm>
          </p:grpSpPr>
          <p:sp>
            <p:nvSpPr>
              <p:cNvPr id="722" name=""/>
              <p:cNvSpPr/>
              <p:nvPr/>
            </p:nvSpPr>
            <p:spPr>
              <a:xfrm>
                <a:off x="7031160" y="4419720"/>
                <a:ext cx="11880" cy="795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43040" y="4419720"/>
                <a:ext cx="22680" cy="795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66080" y="4419720"/>
                <a:ext cx="11880" cy="795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8320" y="4419720"/>
                <a:ext cx="24480" cy="795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02800" y="4419720"/>
                <a:ext cx="11880" cy="795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15040" y="4419720"/>
                <a:ext cx="24480" cy="795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39880" y="4419720"/>
                <a:ext cx="11880" cy="795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51760" y="4419720"/>
                <a:ext cx="24480" cy="795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76600" y="4419720"/>
                <a:ext cx="11880" cy="795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88840" y="4419720"/>
                <a:ext cx="24120" cy="795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12960" y="4419720"/>
                <a:ext cx="12240" cy="795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225560" y="4419720"/>
                <a:ext cx="24120" cy="795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7510320" y="3886200"/>
              <a:ext cx="219240" cy="1325520"/>
              <a:chOff x="7510320" y="3886200"/>
              <a:chExt cx="219240" cy="1325520"/>
            </a:xfrm>
          </p:grpSpPr>
          <p:sp>
            <p:nvSpPr>
              <p:cNvPr id="736" name=""/>
              <p:cNvSpPr/>
              <p:nvPr/>
            </p:nvSpPr>
            <p:spPr>
              <a:xfrm>
                <a:off x="75103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3336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44880" y="3886200"/>
                <a:ext cx="2304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6828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7980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03200" y="3886200"/>
                <a:ext cx="11520" cy="13255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14720" y="3886200"/>
                <a:ext cx="23040" cy="13255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3776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2680" y="3886200"/>
                <a:ext cx="2160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464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065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8004240" y="3429000"/>
              <a:ext cx="218520" cy="1828440"/>
              <a:chOff x="8004240" y="3429000"/>
              <a:chExt cx="218520" cy="1828440"/>
            </a:xfrm>
          </p:grpSpPr>
          <p:sp>
            <p:nvSpPr>
              <p:cNvPr id="749" name=""/>
              <p:cNvSpPr/>
              <p:nvPr/>
            </p:nvSpPr>
            <p:spPr>
              <a:xfrm>
                <a:off x="8004240" y="3429000"/>
                <a:ext cx="11880" cy="182844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016120" y="3429000"/>
                <a:ext cx="22680" cy="182844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39160" y="3429000"/>
                <a:ext cx="12240" cy="182844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051760" y="3429000"/>
                <a:ext cx="24120" cy="182844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75880" y="3429000"/>
                <a:ext cx="11880" cy="182844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088120" y="3429000"/>
                <a:ext cx="24480" cy="182844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112960" y="3429000"/>
                <a:ext cx="11880" cy="182844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24840" y="3429000"/>
                <a:ext cx="24480" cy="182844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149680" y="3429000"/>
                <a:ext cx="11880" cy="182844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161920" y="3429000"/>
                <a:ext cx="24480" cy="182844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86400" y="3429000"/>
                <a:ext cx="11880" cy="182844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198640" y="3429000"/>
                <a:ext cx="24120" cy="182844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4480" y="1547640"/>
              <a:ext cx="5202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Móvil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0760" y="3200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233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5688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114080" y="2362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1280" y="3733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5,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48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192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85880" y="4114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9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667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6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0204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0204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1240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1240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1240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1240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1240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1240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1766520" y="5241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6200000">
              <a:off x="2704680" y="52524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200000">
              <a:off x="318996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6200000">
              <a:off x="464400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200000">
              <a:off x="5105880" y="52948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6200000">
              <a:off x="5582160" y="53010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200000">
              <a:off x="609660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6607800" y="5274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200000">
              <a:off x="706968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277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200000">
              <a:off x="-239760" y="367812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1676520" y="3462480"/>
              <a:ext cx="218520" cy="1794960"/>
              <a:chOff x="1676520" y="3462480"/>
              <a:chExt cx="218520" cy="1794960"/>
            </a:xfrm>
          </p:grpSpPr>
          <p:sp>
            <p:nvSpPr>
              <p:cNvPr id="832" name=""/>
              <p:cNvSpPr/>
              <p:nvPr/>
            </p:nvSpPr>
            <p:spPr>
              <a:xfrm>
                <a:off x="167652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69956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110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7341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74564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76868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78020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80324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8259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83744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8608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720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562800" y="4114800"/>
              <a:ext cx="218520" cy="1142640"/>
              <a:chOff x="6562800" y="4114800"/>
              <a:chExt cx="218520" cy="1142640"/>
            </a:xfrm>
          </p:grpSpPr>
          <p:sp>
            <p:nvSpPr>
              <p:cNvPr id="845" name=""/>
              <p:cNvSpPr/>
              <p:nvPr/>
            </p:nvSpPr>
            <p:spPr>
              <a:xfrm>
                <a:off x="65628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58584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59736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2040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32280" y="4114800"/>
                <a:ext cx="2268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65532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67200" y="4114800"/>
                <a:ext cx="2268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69024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1184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2372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4676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75828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2 EB (2.7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5 EB (3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9 EB (4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272 EB (13,9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5 EB (4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7 EB (4.4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18680" y="17049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3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8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08760" y="2438280"/>
            <a:ext cx="155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19 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6.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540120" y="2997360"/>
            <a:ext cx="18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9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9.1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22440" y="3733920"/>
            <a:ext cx="13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3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74960" y="4343400"/>
            <a:ext cx="149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6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85 EB (40.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EB (1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78760" y="630864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1.964 Estaciones Base / 35 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1295280" y="762120"/>
            <a:ext cx="6553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- Estacione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2666880" y="9907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l total de conexiones a internet en Chile (conmutadas y dedicadas), son del orden de las 650.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proximadamente el 75% se generan en la Región Metropolit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2895480"/>
            <a:ext cx="914400" cy="106704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380880" y="914400"/>
            <a:ext cx="2971800" cy="5715000"/>
            <a:chOff x="380880" y="914400"/>
            <a:chExt cx="2971800" cy="5715000"/>
          </a:xfrm>
        </p:grpSpPr>
        <p:graphicFrame>
          <p:nvGraphicFramePr>
            <p:cNvPr id="894" name=""/>
            <p:cNvGraphicFramePr/>
            <p:nvPr/>
          </p:nvGraphicFramePr>
          <p:xfrm>
            <a:off x="1981080" y="914400"/>
            <a:ext cx="1371600" cy="556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914400"/>
                      <a:ext cx="137160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6" name=""/>
            <p:cNvSpPr/>
            <p:nvPr/>
          </p:nvSpPr>
          <p:spPr>
            <a:xfrm>
              <a:off x="457200" y="914400"/>
              <a:ext cx="1828800" cy="5562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Red%20FO%20-%20001" descr=""/>
            <p:cNvPicPr/>
            <p:nvPr/>
          </p:nvPicPr>
          <p:blipFill>
            <a:blip r:embed="rId3"/>
            <a:stretch/>
          </p:blipFill>
          <p:spPr>
            <a:xfrm>
              <a:off x="838080" y="914400"/>
              <a:ext cx="24177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Red%20FO%20-%20003" descr=""/>
            <p:cNvPicPr/>
            <p:nvPr/>
          </p:nvPicPr>
          <p:blipFill>
            <a:blip r:embed="rId4"/>
            <a:stretch/>
          </p:blipFill>
          <p:spPr>
            <a:xfrm>
              <a:off x="457200" y="5486400"/>
              <a:ext cx="24382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Red%20FO%20-%20002" descr=""/>
            <p:cNvPicPr/>
            <p:nvPr/>
          </p:nvPicPr>
          <p:blipFill>
            <a:blip r:embed="rId5"/>
            <a:stretch/>
          </p:blipFill>
          <p:spPr>
            <a:xfrm>
              <a:off x="682560" y="3276720"/>
              <a:ext cx="23652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380880" y="6477120"/>
              <a:ext cx="2895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1" name="Logo%20SUBTEL" descr=""/>
          <p:cNvPicPr/>
          <p:nvPr/>
        </p:nvPicPr>
        <p:blipFill>
          <a:blip r:embed="rId6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3276720" y="1212840"/>
            <a:ext cx="4876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RED NACIONAL DE FIBRA OP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57600" y="2292480"/>
            <a:ext cx="53341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nsta de un tendido de casi 6.000 K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bertura desde Arica a Puerto Mo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Respaldada en un 100% mediante varios anillos de fibra óp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pacidad redund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rocedimientos de restauración a lo largo del paí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60280" y="174456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aracterísticas Princip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917520" y="495288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Ancho de Banda </a:t>
            </a: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(FFOO Nac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894560" y="5322960"/>
            <a:ext cx="32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 Gbps.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tre Arica y Puerto Mo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763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map_so_am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529080" cy="56386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038480" y="2057400"/>
            <a:ext cx="4800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namerica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pera desde 02-1998. Punto de conexión: Arica. (2.5 G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mergia: SAM-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, En operación. Punto de conexión: Arica, Valparaiso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obal Crossing: SA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IMPSAT.  En operación. Puntos de conexión Conexión en Valparaíso, Stgo. y Los Andes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: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gal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609480"/>
            <a:ext cx="3581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86200" y="958680"/>
            <a:ext cx="4419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ANCHO BANDA P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</a:rPr>
              <a:t>(FFOO Subm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168800" y="5440320"/>
            <a:ext cx="45943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Ancho de Banda</a:t>
            </a: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 (FFO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40 G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20200" y="165888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bles interna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28600" y="2286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ecnologías disponibles de acceso al usu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66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bfb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76920" y="1752480"/>
            <a:ext cx="685800" cy="838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504960" y="167652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2971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3657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71600" y="43434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76520" y="5029200"/>
            <a:ext cx="99036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001000" y="2514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5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91520" y="3581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248520" y="4724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Handh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200" y="22860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ar C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6708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TV 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133360" y="3200400"/>
            <a:ext cx="68580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362320" y="3276720"/>
            <a:ext cx="761760" cy="10666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42840" y="3276720"/>
            <a:ext cx="685800" cy="1752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2057040" y="2819520"/>
            <a:ext cx="60948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1676520" y="2819520"/>
            <a:ext cx="38088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1447560" y="2666880"/>
            <a:ext cx="60948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86200" y="3276720"/>
            <a:ext cx="838080" cy="26668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57600" y="3276720"/>
            <a:ext cx="76320" cy="259056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91320" y="3200400"/>
            <a:ext cx="838080" cy="15238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6468840" y="2766600"/>
            <a:ext cx="1540440" cy="28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3200400"/>
            <a:ext cx="99072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066680" y="1143000"/>
            <a:ext cx="693432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4239720" y="3278880"/>
            <a:ext cx="1502640" cy="2357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62720" y="57150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Infocen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16765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 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MS, 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476760" y="2043720"/>
            <a:ext cx="1152720" cy="634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590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3154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880" y="3886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800" y="4495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66680" y="52117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57400" y="61722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pruebas pil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934320" y="59738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578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3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0120" y="4267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67480" y="2286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72400" y="3154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49831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066680" y="2438280"/>
            <a:ext cx="6934320" cy="20574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95280" y="2666880"/>
            <a:ext cx="64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DÉFICIT DE SOLUCIONES COMUNI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gún estadísticas (Dic 2000) , los déficits de conectividad:2,4 millones de familias. Requieren soluciones de tipo comunit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96% corresponde a hogares, urbanos y rurales, de ingresos inferiores a $500 mil/mes; sin conexión telefónica. Los que si la tienen, no poseen dispositivos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609480" y="3505320"/>
            <a:ext cx="792504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300 mil hogares (8% del total de hogares) con ingreso entre $500 mil y un millón por mes, no disponen d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 tienen acceso a la infraestructura básica de telecomunicaciones (potenciales familias conectad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5257800"/>
            <a:ext cx="792504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450 mil hogares (12% del total) con ingresos familiares superiores a $1.000.000 sin conexión a Internet, a pesar de que la mitad tien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304920"/>
            <a:ext cx="670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Brech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 INFO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1" name=""/>
          <p:cNvGraphicFramePr/>
          <p:nvPr/>
        </p:nvGraphicFramePr>
        <p:xfrm>
          <a:off x="152280" y="693720"/>
          <a:ext cx="8680680" cy="616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93720"/>
                    <a:ext cx="86806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5105520" y="6156360"/>
            <a:ext cx="396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00"/>
                </a:solidFill>
                <a:latin typeface="Verdana"/>
              </a:rPr>
              <a:t>Fuente:  SUBTEL   (Sept 200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04200"/>
            <a:ext cx="3733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342440"/>
            <a:ext cx="731520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dios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luciones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pectos de Calidad de las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olución d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248280" cy="51818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304920" y="914400"/>
            <a:ext cx="9903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ric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Iquiqu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95280" y="11430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4920" y="1523880"/>
            <a:ext cx="14475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ntogagast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alama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752480" y="17524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4920" y="2133720"/>
            <a:ext cx="9903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piapó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2209680"/>
            <a:ext cx="2286000" cy="10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4920" y="2438280"/>
            <a:ext cx="12189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quimb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La Serena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09680" y="28195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3048120"/>
            <a:ext cx="91440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bil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Cale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Ligu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torc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cuncaví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taen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34290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219320" y="3048120"/>
            <a:ext cx="106668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lot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pué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Antoni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Felip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parís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ña del Mar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1523520" y="2666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4267080"/>
            <a:ext cx="121932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ill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o Navi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in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Estación Centr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Huechurab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Florida (1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Rein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Melipill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A. Cerd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ñalol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71600" y="4267080"/>
            <a:ext cx="114300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rovidenc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nta Norm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cole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Bernar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Joaquí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Migue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tiag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alaga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ilti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nte Al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6172200"/>
            <a:ext cx="9144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uquen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ep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inar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05720" y="762120"/>
            <a:ext cx="990360" cy="1312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ñe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hillán (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cepción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tulm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nil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ebu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s Álam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6019920"/>
            <a:ext cx="144792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Rancagua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San Fernand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2514600" y="52578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6172200"/>
            <a:ext cx="11430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Río Clar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San Cleme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Tal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3352680" y="5562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29400" y="2165400"/>
            <a:ext cx="91440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gol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r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l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nc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cautín (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Galvarin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utar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43800" y="2165400"/>
            <a:ext cx="121932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 De las Casa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itrufqu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to. Saaved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r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naic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llarri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5257800" y="99036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 flipV="1">
            <a:off x="5409720" y="14479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477120" y="3429000"/>
            <a:ext cx="1066680" cy="81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cud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Osorn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angu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rto Montt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div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5181120" y="1981080"/>
            <a:ext cx="12956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5638680"/>
            <a:ext cx="14475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Punta Arena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5562360" y="5257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24480" y="4419720"/>
            <a:ext cx="1447920" cy="73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hile Chic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chran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yhaiqu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5257440" y="3200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86400" y="62485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Fuente:  SUBTEL (Sept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609480" y="914400"/>
            <a:ext cx="792504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fines del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MINECON, SERCOTEC, FOSIS y Bco.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del MINV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el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BAM: 330 Infocentros en Bibliotecas (1 en cada comu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proyectan 70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TELECENTR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vía subsidios del FDT-II (Subte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 través del Proyecto Enlaces se está evaluando el establecer un Infocentro en cada establecimiento educacional del país. (5.335 establec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NCE: 107 Oficinas Municipales de Información Laboral (OMIL) que servirán como Infoce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457200" y="1820880"/>
            <a:ext cx="784872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ercepción del valor de las 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no son un sector económico. Son un instrumento para la acción del hombre. Las TI no reemplazan las necesidades cotidianas de la gente. Solamente las ayudan a satisfacerlas de mejor modo, tanto desde el cómo se producen los bienes y servicios y cómo se accede a ell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reducen significativamente los costos de transacción. En términos económicos, implica más eficiencia, más competencia, y más uso del mercado como mecanismo de coord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762120" y="1927080"/>
            <a:ext cx="7543800" cy="30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ectividad 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e tienen excelentes valores de anchos de banda al interior del país y de salida internacional. Además, se tienen normativas de calidad del serv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stímulo para la ofert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Gobierno ha tomado un rol promotor generando las condiciones para que los privados inviertan y desarrollen negocios en TI. Alianz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ifusión para impulsar la demand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 necesario abundar en iniciativas que difundan conocimientos acerca de las TI e infoalfabeticen a ciudadanos y microempresa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185840" y="2189160"/>
          <a:ext cx="672480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2189160"/>
                    <a:ext cx="67248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914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mportancia para el Gob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ra abordar el mejor tratamiento de los grandes temas, el Comité los organizó en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inco áreas o ej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que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30492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CGN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2" name="Logo%20SUBTEL" descr=""/>
          <p:cNvPicPr/>
          <p:nvPr/>
        </p:nvPicPr>
        <p:blipFill>
          <a:blip r:embed="rId3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685800" y="1600200"/>
            <a:ext cx="76201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5 ejes estratégicos del gobierno en su estrateg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uperar la brecha digital: social y geo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romover la educación para la sociedad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nstruir un Gobierno electrónico de Clase Mundial para todos los ciudad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la industria local de TI (contenidos y servic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el comercio electrónico y el uso de TI en las medianas y pequeñas empr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685800" y="2293920"/>
            <a:ext cx="7620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 la subsecretaría le corresponde coordinar los esfuerzos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FOMENTO AL 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LA FORMACIÓN DE RECURSOS HUMANOS EN 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Aspectos de Calidad de las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112896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120" y="1889280"/>
            <a:ext cx="7696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ipo de señalización: S7 (Caller ID, llamada en espera, otros servici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sa de pérdida (telefonía): Plan de Encaminamiento. Perdida má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1% entre punto Origen y Destino. Hay competencia donde hay superposición de r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bertura Telefonía Móvil: Disponibilidad del servicio. Ha mejorado. Usuario elige por precio y luego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D: convenio para respaldo de fibra frente a emergencias (fibra oscura). Hoy hay competencia en el transporte de señ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205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21932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OFRE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5288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ALCAN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3520" y="4191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33520" y="640080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33520" y="22096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66880" y="5943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95480" y="2286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39" idx="1"/>
          </p:cNvCxnSpPr>
          <p:nvPr/>
        </p:nvCxnSpPr>
        <p:spPr>
          <a:xfrm flipH="1" flipV="1" rot="10800000">
            <a:off x="1218960" y="3161160"/>
            <a:ext cx="2160" cy="2210760"/>
          </a:xfrm>
          <a:prstGeom prst="curvedConnector5">
            <a:avLst>
              <a:gd name="adj1" fmla="val -58100000"/>
              <a:gd name="adj2" fmla="val 50000"/>
              <a:gd name="adj3" fmla="val -581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7" name=""/>
          <p:cNvCxnSpPr/>
          <p:nvPr/>
        </p:nvCxnSpPr>
        <p:spPr>
          <a:xfrm>
            <a:off x="8001000" y="3200400"/>
            <a:ext cx="2160" cy="2210400"/>
          </a:xfrm>
          <a:prstGeom prst="curvedConnector5">
            <a:avLst>
              <a:gd name="adj1" fmla="val 42280000"/>
              <a:gd name="adj2" fmla="val 49991"/>
              <a:gd name="adj3" fmla="val 4228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8" name=""/>
          <p:cNvCxnSpPr>
            <a:stCxn id="1040" idx="0"/>
            <a:endCxn id="1039" idx="0"/>
          </p:cNvCxnSpPr>
          <p:nvPr/>
        </p:nvCxnSpPr>
        <p:spPr>
          <a:xfrm rot="5400000">
            <a:off x="4570560" y="1028520"/>
            <a:ext cx="2520" cy="3734640"/>
          </a:xfrm>
          <a:prstGeom prst="curvedConnector5">
            <a:avLst>
              <a:gd name="adj1" fmla="val -104800000"/>
              <a:gd name="adj2" fmla="val 49995"/>
              <a:gd name="adj3" fmla="val -10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9" name=""/>
          <p:cNvCxnSpPr/>
          <p:nvPr/>
        </p:nvCxnSpPr>
        <p:spPr>
          <a:xfrm flipH="1" rot="16200000">
            <a:off x="4570920" y="3772080"/>
            <a:ext cx="2520" cy="3734640"/>
          </a:xfrm>
          <a:prstGeom prst="curvedConnector5">
            <a:avLst>
              <a:gd name="adj1" fmla="val 58683333"/>
              <a:gd name="adj2" fmla="val 49995"/>
              <a:gd name="adj3" fmla="val 5868333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41911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3657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7724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191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0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932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ESPE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02920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REDES DE TELECOMUNICACIONES Y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429000"/>
            <a:ext cx="7848720" cy="0"/>
          </a:xfrm>
          <a:prstGeom prst="line">
            <a:avLst/>
          </a:prstGeom>
          <a:ln w="237960">
            <a:solidFill>
              <a:srgbClr val="99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4479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Medios de Comunicación más usados durante los conflictos bé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590920"/>
            <a:ext cx="129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(Diferi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4382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in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590920"/>
            <a:ext cx="1295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satel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36232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Viet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Golfo Pér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73392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Sep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19720"/>
            <a:ext cx="8305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Según Harris Interactive, sondeando a 4.610 internautas de USA entre el día 11 y 12 de septiembre, el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64%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de los encuestados dijo que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fue su principal fuente de información. </a:t>
            </a:r>
            <a:br>
              <a:rPr sz="1400"/>
            </a:b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demá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8% señaló que Internet les fue útil para enfrentarse a la trag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7% discutieron Online los atentados a través de fo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36% escogieron la red como medio de información ya que en ella encontraban noticias más detalladas.                      </a:t>
            </a:r>
            <a:r>
              <a:rPr b="1" i="1" lang="es-ES_tradnl" sz="1400" spc="-1" strike="noStrike">
                <a:solidFill>
                  <a:srgbClr val="000000"/>
                </a:solidFill>
                <a:latin typeface="Verdana"/>
              </a:rPr>
              <a:t>Fuente: Grupo Intercom España (www.noticias.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2120" y="2041560"/>
            <a:ext cx="746748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ofrecida y alcanzada: Será una medida de la manera en que los lineamientos estratégico-comerciales bajan hacia el nivel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percibida: Será una medida del grado en que el servicio es lo que el usuario estaba esperando. Nivel de satisfacción del usu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62120" y="1144440"/>
            <a:ext cx="7696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alcanzada y percibida: La calidad alcanzada induce la calidad percibida. El gap se produce por diferencias de interpretación entre usuario y proveedor (debiese tender a cero con adecuadas funciones post-vent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ofrecida: La calidad esperada induce la calidad ofrecida. El gap se produce por diferencias de interpretación entre usuario y proveedor (debiese tender a cero con adecuados estudios de demanda, focus grou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odelo funciona de manera que reduciendo un Gap, se reducen los demás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16624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1523880"/>
            <a:ext cx="8153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Técnicas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 los Enlaces de Tráfico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l Servicio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elaboradas en colaboración con la Asociación de Proveedores de Internet (API A.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con enfoque de autorregulación, vale decir, no se fijan estándares mínimos de calidad para los indicadores, sino que se deben medir y publicar en sitios web, siendo el mercado el que debe ope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 transparencia para los usuarios e introducción de criterios precio - calidad del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04920" y="1447920"/>
            <a:ext cx="2971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148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ye a aceptar y solicitar conexión con otros ISPs (elimina distorsión en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18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79472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779436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946640" y="28782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47000" y="31068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18000" y="2540160"/>
            <a:ext cx="1752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ackbone Ch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rma 6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97032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7351200" y="203976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475400" y="2421000"/>
            <a:ext cx="547560" cy="361800"/>
            <a:chOff x="7475400" y="2421000"/>
            <a:chExt cx="547560" cy="361800"/>
          </a:xfrm>
        </p:grpSpPr>
        <p:sp>
          <p:nvSpPr>
            <p:cNvPr id="1076" name="">
              <a:hlinkClick r:id="rId2"/>
            </p:cNvPr>
            <p:cNvSpPr/>
            <p:nvPr/>
          </p:nvSpPr>
          <p:spPr>
            <a:xfrm>
              <a:off x="74754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894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5904000" y="3564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84880" y="341136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5827320" y="211608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590364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579800" y="341136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93960" y="3792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6612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085240" y="2592360"/>
            <a:ext cx="547560" cy="361800"/>
            <a:chOff x="8085240" y="2592360"/>
            <a:chExt cx="547560" cy="361800"/>
          </a:xfrm>
        </p:grpSpPr>
        <p:sp>
          <p:nvSpPr>
            <p:cNvPr id="1086" name="">
              <a:hlinkClick r:id="rId3"/>
            </p:cNvPr>
            <p:cNvSpPr/>
            <p:nvPr/>
          </p:nvSpPr>
          <p:spPr>
            <a:xfrm>
              <a:off x="8085240" y="25923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099280" y="26492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8099280" y="3049560"/>
            <a:ext cx="547560" cy="361800"/>
            <a:chOff x="8099280" y="3049560"/>
            <a:chExt cx="547560" cy="361800"/>
          </a:xfrm>
        </p:grpSpPr>
        <p:sp>
          <p:nvSpPr>
            <p:cNvPr id="1089" name="">
              <a:hlinkClick r:id="rId4"/>
            </p:cNvPr>
            <p:cNvSpPr/>
            <p:nvPr/>
          </p:nvSpPr>
          <p:spPr>
            <a:xfrm>
              <a:off x="80992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1133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7551720" y="3259080"/>
            <a:ext cx="547560" cy="361800"/>
            <a:chOff x="7551720" y="3259080"/>
            <a:chExt cx="547560" cy="361800"/>
          </a:xfrm>
        </p:grpSpPr>
        <p:sp>
          <p:nvSpPr>
            <p:cNvPr id="1092" name="">
              <a:hlinkClick r:id="rId5"/>
            </p:cNvPr>
            <p:cNvSpPr/>
            <p:nvPr/>
          </p:nvSpPr>
          <p:spPr>
            <a:xfrm>
              <a:off x="755172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576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H="1">
            <a:off x="7489440" y="31068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36960" y="1430280"/>
            <a:ext cx="388620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MUN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76576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576540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18040" y="3106800"/>
            <a:ext cx="15264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5446800" y="2421000"/>
            <a:ext cx="547560" cy="361800"/>
            <a:chOff x="5446800" y="2421000"/>
            <a:chExt cx="547560" cy="361800"/>
          </a:xfrm>
        </p:grpSpPr>
        <p:sp>
          <p:nvSpPr>
            <p:cNvPr id="1100" name="">
              <a:hlinkClick r:id="rId6"/>
            </p:cNvPr>
            <p:cNvSpPr/>
            <p:nvPr/>
          </p:nvSpPr>
          <p:spPr>
            <a:xfrm>
              <a:off x="54468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608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070680" y="3049560"/>
            <a:ext cx="547560" cy="361800"/>
            <a:chOff x="6070680" y="3049560"/>
            <a:chExt cx="547560" cy="361800"/>
          </a:xfrm>
        </p:grpSpPr>
        <p:sp>
          <p:nvSpPr>
            <p:cNvPr id="1103" name="">
              <a:hlinkClick r:id="rId7"/>
            </p:cNvPr>
            <p:cNvSpPr/>
            <p:nvPr/>
          </p:nvSpPr>
          <p:spPr>
            <a:xfrm>
              <a:off x="60706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847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522760" y="3259080"/>
            <a:ext cx="547560" cy="361800"/>
            <a:chOff x="5522760" y="3259080"/>
            <a:chExt cx="547560" cy="361800"/>
          </a:xfrm>
        </p:grpSpPr>
        <p:sp>
          <p:nvSpPr>
            <p:cNvPr id="1106" name="">
              <a:hlinkClick r:id="rId8"/>
            </p:cNvPr>
            <p:cNvSpPr/>
            <p:nvPr/>
          </p:nvSpPr>
          <p:spPr>
            <a:xfrm>
              <a:off x="552276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3680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 flipH="1">
            <a:off x="5460840" y="3106800"/>
            <a:ext cx="15264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989600" y="3106800"/>
            <a:ext cx="547560" cy="361800"/>
            <a:chOff x="4989600" y="3106800"/>
            <a:chExt cx="547560" cy="361800"/>
          </a:xfrm>
        </p:grpSpPr>
        <p:sp>
          <p:nvSpPr>
            <p:cNvPr id="1110" name="">
              <a:hlinkClick r:id="rId9"/>
            </p:cNvPr>
            <p:cNvSpPr/>
            <p:nvPr/>
          </p:nvSpPr>
          <p:spPr>
            <a:xfrm>
              <a:off x="49896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0036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5446800" y="28782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975200" y="2649600"/>
            <a:ext cx="547560" cy="361800"/>
            <a:chOff x="4975200" y="2649600"/>
            <a:chExt cx="547560" cy="361800"/>
          </a:xfrm>
        </p:grpSpPr>
        <p:sp>
          <p:nvSpPr>
            <p:cNvPr id="1114" name="">
              <a:hlinkClick r:id="rId10"/>
            </p:cNvPr>
            <p:cNvSpPr/>
            <p:nvPr/>
          </p:nvSpPr>
          <p:spPr>
            <a:xfrm>
              <a:off x="4975200" y="26496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89240" y="27064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8870000">
            <a:off x="5506920" y="2657520"/>
            <a:ext cx="2481840" cy="23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98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98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3716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18000" y="2344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122960" y="341136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7018200" y="3106800"/>
            <a:ext cx="547560" cy="361800"/>
            <a:chOff x="7018200" y="3106800"/>
            <a:chExt cx="547560" cy="361800"/>
          </a:xfrm>
        </p:grpSpPr>
        <p:sp>
          <p:nvSpPr>
            <p:cNvPr id="1121" name="">
              <a:hlinkClick r:id="rId11"/>
            </p:cNvPr>
            <p:cNvSpPr/>
            <p:nvPr/>
          </p:nvSpPr>
          <p:spPr>
            <a:xfrm>
              <a:off x="70182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322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410080" y="4114800"/>
            <a:ext cx="2590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228600" y="2876400"/>
            <a:ext cx="35053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98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struye a los PITs (Puntos de Intercambio de Tráfico) e ISPs a medir y publicar Indicadores de calidad de los enlaces de tráfico internet existentes entre 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505320" y="4648320"/>
            <a:ext cx="51051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69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ja indicadores de calidad del servicio de acceso a 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99360" y="39448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 m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orma 6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0" y="3581280"/>
            <a:ext cx="1244520" cy="55404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66880" y="9144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rmativas Técnicas d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20" y="5049720"/>
            <a:ext cx="3737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Ocupación del Enl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Latenci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Pérdida de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33920" y="5257800"/>
            <a:ext cx="5333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éxito de los intentos de conex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iempo promedio de establecimiento de la conex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transferencia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orcentaje de Modems dispon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0880" y="8380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rma de Calidad de los Enlaces de Tráfico de Internet (Res. Ex. N°6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4992840" y="14144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4190760" cy="13971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533520" y="13716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Ocupación del Enlace (Subida y Bajada)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4920" y="3429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ub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7276.0 (71%) Kbps Promedio: 3859.4 (37%) Kbps Actual: 4992.0 (48%) Kbps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Baja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6368.8 (62%) Kbps Promedio: 3520.4 (34%) Kbps Actual: 5432.0 (53%)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3926160" cy="13082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609480" y="41911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ncia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579132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tencia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x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.4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medio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2.2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tual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.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5"/>
          <a:stretch/>
        </p:blipFill>
        <p:spPr>
          <a:xfrm>
            <a:off x="4724280" y="4800600"/>
            <a:ext cx="4000680" cy="13334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480060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pérdida de paquetes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10920" y="6095880"/>
            <a:ext cx="33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érd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3.1% Promedio: 0.9% Actual: 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636200" y="641520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Verdana"/>
              </a:rPr>
              <a:t>www.subtel.cl/marco_legal/normas/indice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volución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2209680" y="8380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asto en 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28600" y="1523880"/>
          <a:ext cx="8699400" cy="14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99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304920" y="30924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International Data Corporation Chile y CNC (Feb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7200" y="3657600"/>
            <a:ext cx="8001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ún cuando ha crecido el Gasto en TI, este crecimiento no es su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tasa de crecimiento de latinoamérica es mayor. Colombia se proyecta con un 1.9% del PIB para este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ile debiese llegar, a juicio de los analistas, a un gasto en TI de 2.39% del PIB para seguir manteniendo el liderazgo en latinoamé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114768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6" name=""/>
          <p:cNvGraphicFramePr/>
          <p:nvPr/>
        </p:nvGraphicFramePr>
        <p:xfrm>
          <a:off x="228600" y="708120"/>
          <a:ext cx="8229600" cy="55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08120"/>
                    <a:ext cx="822960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8" name=""/>
          <p:cNvSpPr/>
          <p:nvPr/>
        </p:nvSpPr>
        <p:spPr>
          <a:xfrm>
            <a:off x="5105520" y="1523880"/>
            <a:ext cx="2743200" cy="457200"/>
          </a:xfrm>
          <a:prstGeom prst="wedgeRectCallout">
            <a:avLst>
              <a:gd name="adj1" fmla="val 35416"/>
              <a:gd name="adj2" fmla="val 107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usuarios/100 Habi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133720" y="609588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SUBTEL / CCS (2006 (e); 5 MM usuarios; 30 usuarios por cada 100 h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130032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Persp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todavía está lejos de las penetraciones en los países desarroll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(aun en el contexto actual) presenta un bajo riesgo lo que incentiva la inversiò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rrollo de penetración en estratos rurales y/o de menores ingr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Disponer de medios de acceso a lo largo de todo el territorio nacion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esarrollo de la Infraestructura de seguridad para la operación de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08240" y="380880"/>
            <a:ext cx="517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99"/>
                </a:solidFill>
                <a:uFillTx/>
                <a:latin typeface="Verdana"/>
              </a:rPr>
              <a:t>POLÍTICAS PARA EL ACCESO A LAS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rcado objetivo pequeño lo que facilita la implementación de proyectos reales a bajo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ursos humanos lo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 potenciales aún no satisfechos en la intensidad del uso de nuevas tecnolog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Considera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- Fomento a la Competencia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- Normas que evolucionan de acuerdo a las Nuevas       Tecnologías (no significa cambio de reglas del juego)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- Participación de los actores en la generación de la normativa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fianza de Operadores para avanzar en la adecuación del marco regulatorio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scalización coherente con las premisas anteriore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Incentivos hacia la autoregulación en los diferent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rca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38080" y="304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9288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 lo que a Subtel resp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19320" y="495000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17000" y="6172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2743200"/>
            <a:ext cx="6933960" cy="13716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Disponer de medios de acceso a lo largo de todo el territori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OPERADORES DE 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1066680"/>
            <a:ext cx="22096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f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914400"/>
            <a:ext cx="25905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4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norm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752480"/>
            <a:ext cx="32763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FDT” (r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35812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de larg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200400"/>
            <a:ext cx="3276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26708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1 Operador Satel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1610-1621.35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2483.5-250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42900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19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59092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2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8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0292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8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oveedores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219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21932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81280" y="289512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58128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9436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Grandes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V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99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5000" y="1555920"/>
              <a:ext cx="5846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Líneas Telefónica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29200" y="1898640"/>
              <a:ext cx="442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Líneas a Diciembre de 2000: 3.365.03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7,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136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8,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516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228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872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064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9036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79240" y="330840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10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161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684440" y="3567240"/>
              <a:ext cx="220320" cy="1690200"/>
              <a:chOff x="1684440" y="3567240"/>
              <a:chExt cx="220320" cy="1690200"/>
            </a:xfrm>
          </p:grpSpPr>
          <p:sp>
            <p:nvSpPr>
              <p:cNvPr id="204" name=""/>
              <p:cNvSpPr/>
              <p:nvPr/>
            </p:nvSpPr>
            <p:spPr>
              <a:xfrm>
                <a:off x="1684440" y="3567240"/>
                <a:ext cx="12240" cy="16902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6680" y="3567240"/>
                <a:ext cx="24840" cy="169020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21520" y="3567240"/>
                <a:ext cx="12240" cy="16902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33760" y="3567240"/>
                <a:ext cx="24480" cy="169020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8240" y="3567240"/>
                <a:ext cx="10800" cy="169020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69040" y="3567240"/>
                <a:ext cx="24840" cy="169020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3880" y="3567240"/>
                <a:ext cx="12240" cy="16902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6120" y="3567240"/>
                <a:ext cx="24840" cy="169020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30960" y="3567240"/>
                <a:ext cx="12240" cy="169020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43200" y="3567240"/>
                <a:ext cx="24480" cy="169020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67680" y="3567240"/>
                <a:ext cx="12600" cy="169020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880280" y="3567240"/>
                <a:ext cx="24480" cy="169020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163600" y="3429000"/>
              <a:ext cx="218880" cy="1794960"/>
              <a:chOff x="2163600" y="3429000"/>
              <a:chExt cx="218880" cy="1794960"/>
            </a:xfrm>
          </p:grpSpPr>
          <p:sp>
            <p:nvSpPr>
              <p:cNvPr id="217" name=""/>
              <p:cNvSpPr/>
              <p:nvPr/>
            </p:nvSpPr>
            <p:spPr>
              <a:xfrm>
                <a:off x="216360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8664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816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2120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720" y="342900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55760" y="342900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67280" y="342900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90680" y="342900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1336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2488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4792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5944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231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137040" y="4114800"/>
              <a:ext cx="215280" cy="1109160"/>
              <a:chOff x="3137040" y="4114800"/>
              <a:chExt cx="215280" cy="11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137040" y="4114800"/>
                <a:ext cx="2232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5936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70520" y="4114800"/>
                <a:ext cx="2268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93560" y="4114800"/>
                <a:ext cx="1116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04720" y="4114800"/>
                <a:ext cx="2268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27760" y="4114800"/>
                <a:ext cx="11160" cy="11091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38920" y="4114800"/>
                <a:ext cx="22680" cy="110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61600" y="4114800"/>
                <a:ext cx="2232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84280" y="4114800"/>
                <a:ext cx="1152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95800" y="4114800"/>
                <a:ext cx="2232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1848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29640" y="4114800"/>
                <a:ext cx="2268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630600" y="3352680"/>
              <a:ext cx="218880" cy="1919160"/>
              <a:chOff x="3630600" y="3352680"/>
              <a:chExt cx="218880" cy="1919160"/>
            </a:xfrm>
          </p:grpSpPr>
          <p:sp>
            <p:nvSpPr>
              <p:cNvPr id="257" name=""/>
              <p:cNvSpPr/>
              <p:nvPr/>
            </p:nvSpPr>
            <p:spPr>
              <a:xfrm>
                <a:off x="3630600" y="3352680"/>
                <a:ext cx="11880" cy="19191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42480" y="3352680"/>
                <a:ext cx="24480" cy="19191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67320" y="3352680"/>
                <a:ext cx="11880" cy="19191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79560" y="3352680"/>
                <a:ext cx="24480" cy="19191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04040" y="3352680"/>
                <a:ext cx="11880" cy="19191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16280" y="3352680"/>
                <a:ext cx="24480" cy="19191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40760" y="3352680"/>
                <a:ext cx="10080" cy="191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1200" y="3352680"/>
                <a:ext cx="24480" cy="19191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76040" y="3352680"/>
                <a:ext cx="11880" cy="19191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8280" y="3352680"/>
                <a:ext cx="24480" cy="19191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12760" y="3352680"/>
                <a:ext cx="11880" cy="19191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25000" y="3352680"/>
                <a:ext cx="24480" cy="19191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110120" y="2666880"/>
              <a:ext cx="218520" cy="2557080"/>
              <a:chOff x="4110120" y="2666880"/>
              <a:chExt cx="218520" cy="2557080"/>
            </a:xfrm>
          </p:grpSpPr>
          <p:sp>
            <p:nvSpPr>
              <p:cNvPr id="270" name=""/>
              <p:cNvSpPr/>
              <p:nvPr/>
            </p:nvSpPr>
            <p:spPr>
              <a:xfrm>
                <a:off x="4110120" y="2666880"/>
                <a:ext cx="2268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32800" y="2666880"/>
                <a:ext cx="1152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4468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67360" y="2666880"/>
                <a:ext cx="1116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78880" y="2666880"/>
                <a:ext cx="2304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01920" y="2666880"/>
                <a:ext cx="11160" cy="25570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13440" y="2666880"/>
                <a:ext cx="23040" cy="2557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36840" y="2666880"/>
                <a:ext cx="2268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59520" y="2666880"/>
                <a:ext cx="1152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7140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94080" y="2666880"/>
                <a:ext cx="1116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600" y="2666880"/>
                <a:ext cx="2304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603680" y="4267080"/>
              <a:ext cx="218880" cy="956880"/>
              <a:chOff x="4603680" y="4267080"/>
              <a:chExt cx="218880" cy="9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603680" y="4267080"/>
                <a:ext cx="11880" cy="9568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15560" y="4267080"/>
                <a:ext cx="24480" cy="9568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0400" y="4267080"/>
                <a:ext cx="11880" cy="9568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2640" y="4267080"/>
                <a:ext cx="24480" cy="9568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77120" y="4267080"/>
                <a:ext cx="11880" cy="9568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89360" y="4267080"/>
                <a:ext cx="24480" cy="9568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13840" y="4267080"/>
                <a:ext cx="11880" cy="9568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26080" y="4267080"/>
                <a:ext cx="22680" cy="9568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9120" y="4267080"/>
                <a:ext cx="11880" cy="9568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61360" y="4267080"/>
                <a:ext cx="24480" cy="9568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5840" y="4267080"/>
                <a:ext cx="11880" cy="9568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98080" y="4267080"/>
                <a:ext cx="24480" cy="9568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083200" y="4419720"/>
              <a:ext cx="218520" cy="804240"/>
              <a:chOff x="5083200" y="4419720"/>
              <a:chExt cx="218520" cy="804240"/>
            </a:xfrm>
          </p:grpSpPr>
          <p:sp>
            <p:nvSpPr>
              <p:cNvPr id="297" name=""/>
              <p:cNvSpPr/>
              <p:nvPr/>
            </p:nvSpPr>
            <p:spPr>
              <a:xfrm>
                <a:off x="5083200" y="4419720"/>
                <a:ext cx="11880" cy="804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95080" y="4419720"/>
                <a:ext cx="24120" cy="804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19560" y="4419720"/>
                <a:ext cx="11880" cy="804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31800" y="4419720"/>
                <a:ext cx="24120" cy="804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56280" y="4419720"/>
                <a:ext cx="11880" cy="804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68160" y="4419720"/>
                <a:ext cx="24120" cy="804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92280" y="4419720"/>
                <a:ext cx="12240" cy="804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4880" y="4419720"/>
                <a:ext cx="24120" cy="804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29000" y="4419720"/>
                <a:ext cx="12240" cy="804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41240" y="4419720"/>
                <a:ext cx="24120" cy="804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65360" y="4419720"/>
                <a:ext cx="11880" cy="804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77600" y="4419720"/>
                <a:ext cx="24120" cy="804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564160" y="4038480"/>
              <a:ext cx="218880" cy="1185480"/>
              <a:chOff x="5564160" y="4038480"/>
              <a:chExt cx="218880" cy="1185480"/>
            </a:xfrm>
          </p:grpSpPr>
          <p:sp>
            <p:nvSpPr>
              <p:cNvPr id="310" name=""/>
              <p:cNvSpPr/>
              <p:nvPr/>
            </p:nvSpPr>
            <p:spPr>
              <a:xfrm>
                <a:off x="556416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8720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9872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217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364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5668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6856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91600" y="4038480"/>
                <a:ext cx="2160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135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2544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484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6000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058080" y="4343400"/>
              <a:ext cx="218520" cy="880920"/>
              <a:chOff x="6058080" y="4343400"/>
              <a:chExt cx="218520" cy="880920"/>
            </a:xfrm>
          </p:grpSpPr>
          <p:sp>
            <p:nvSpPr>
              <p:cNvPr id="323" name=""/>
              <p:cNvSpPr/>
              <p:nvPr/>
            </p:nvSpPr>
            <p:spPr>
              <a:xfrm>
                <a:off x="6058080" y="4343400"/>
                <a:ext cx="10080" cy="8809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68160" y="4343400"/>
                <a:ext cx="24480" cy="8809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93000" y="4343400"/>
                <a:ext cx="11880" cy="8809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05240" y="4343400"/>
                <a:ext cx="24480" cy="8809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29720" y="4343400"/>
                <a:ext cx="11880" cy="8809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41960" y="4343400"/>
                <a:ext cx="24480" cy="8809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66800" y="4343400"/>
                <a:ext cx="11880" cy="8809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78680" y="4343400"/>
                <a:ext cx="24120" cy="8809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3160" y="4343400"/>
                <a:ext cx="12240" cy="8809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15760" y="4343400"/>
                <a:ext cx="24120" cy="8809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39880" y="4343400"/>
                <a:ext cx="12240" cy="8809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52480" y="4343400"/>
                <a:ext cx="24120" cy="8809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058080" y="4319640"/>
              <a:ext cx="21888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537240" y="4038480"/>
              <a:ext cx="219240" cy="1185480"/>
              <a:chOff x="6537240" y="4038480"/>
              <a:chExt cx="219240" cy="1185480"/>
            </a:xfrm>
          </p:grpSpPr>
          <p:sp>
            <p:nvSpPr>
              <p:cNvPr id="337" name=""/>
              <p:cNvSpPr/>
              <p:nvPr/>
            </p:nvSpPr>
            <p:spPr>
              <a:xfrm>
                <a:off x="65372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602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180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9520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0672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2976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4164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468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8808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99600" y="4038480"/>
                <a:ext cx="2160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2156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334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7031160" y="3809880"/>
              <a:ext cx="218520" cy="1414080"/>
              <a:chOff x="7031160" y="3809880"/>
              <a:chExt cx="218520" cy="1414080"/>
            </a:xfrm>
          </p:grpSpPr>
          <p:sp>
            <p:nvSpPr>
              <p:cNvPr id="351" name=""/>
              <p:cNvSpPr/>
              <p:nvPr/>
            </p:nvSpPr>
            <p:spPr>
              <a:xfrm>
                <a:off x="7031160" y="3809880"/>
                <a:ext cx="11880" cy="14140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43040" y="3809880"/>
                <a:ext cx="22680" cy="14140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66080" y="3809880"/>
                <a:ext cx="11880" cy="14140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78320" y="3809880"/>
                <a:ext cx="24480" cy="14140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02800" y="3809880"/>
                <a:ext cx="11880" cy="14140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15040" y="3809880"/>
                <a:ext cx="24480" cy="14140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39880" y="3809880"/>
                <a:ext cx="11880" cy="1414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51760" y="3809880"/>
                <a:ext cx="24480" cy="14140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76600" y="3809880"/>
                <a:ext cx="11880" cy="14140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88840" y="3809880"/>
                <a:ext cx="24120" cy="14140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12960" y="3809880"/>
                <a:ext cx="12240" cy="14140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25560" y="3809880"/>
                <a:ext cx="24120" cy="14140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510320" y="3200400"/>
              <a:ext cx="219240" cy="2023560"/>
              <a:chOff x="7510320" y="3200400"/>
              <a:chExt cx="219240" cy="202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5103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3336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44880" y="3200400"/>
                <a:ext cx="2304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6828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7980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03200" y="3200400"/>
                <a:ext cx="11520" cy="20235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14720" y="3200400"/>
                <a:ext cx="23040" cy="2023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3776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6116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72680" y="3200400"/>
                <a:ext cx="2160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464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065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510320" y="3333600"/>
              <a:ext cx="23976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004240" y="3429000"/>
              <a:ext cx="218520" cy="1794960"/>
              <a:chOff x="8004240" y="3429000"/>
              <a:chExt cx="218520" cy="1794960"/>
            </a:xfrm>
          </p:grpSpPr>
          <p:sp>
            <p:nvSpPr>
              <p:cNvPr id="379" name=""/>
              <p:cNvSpPr/>
              <p:nvPr/>
            </p:nvSpPr>
            <p:spPr>
              <a:xfrm>
                <a:off x="8004240" y="3429000"/>
                <a:ext cx="11880" cy="179496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16120" y="3429000"/>
                <a:ext cx="22680" cy="179496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039160" y="3429000"/>
                <a:ext cx="12240" cy="179496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51760" y="3429000"/>
                <a:ext cx="24120" cy="179496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75880" y="3429000"/>
                <a:ext cx="11880" cy="179496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88120" y="3429000"/>
                <a:ext cx="24480" cy="179496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112960" y="3429000"/>
                <a:ext cx="11880" cy="179496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24840" y="3429000"/>
                <a:ext cx="24480" cy="179496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149680" y="3429000"/>
                <a:ext cx="11880" cy="179496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161920" y="3429000"/>
                <a:ext cx="24480" cy="179496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186400" y="3429000"/>
                <a:ext cx="11880" cy="179496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198640" y="3429000"/>
                <a:ext cx="24120" cy="179496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24160" y="1547640"/>
              <a:ext cx="444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076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3632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04320" y="3116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3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080" y="2438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02960" y="3987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7680" y="4205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31800" y="4021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43040" y="361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09600" y="3025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2868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2868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156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156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4156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4156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4156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4156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6200000">
              <a:off x="1766520" y="5216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6200000">
              <a:off x="2704680" y="5230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200000">
              <a:off x="318996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464400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5105880" y="52729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5582160" y="52776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609660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6607800" y="5248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706968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529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-241560" y="367956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523880" y="762120"/>
            <a:ext cx="6096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-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4 CT (2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5 CT (2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CT (6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87 CT (14.5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8 (8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9 CT (8.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1400" y="1704960"/>
            <a:ext cx="19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83 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13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88600" y="2438280"/>
            <a:ext cx="14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9.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80360" y="3048120"/>
            <a:ext cx="137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23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3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19200" y="3733920"/>
            <a:ext cx="134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7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71720" y="4343400"/>
            <a:ext cx="149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64 CT (27.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 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5280" y="630864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601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Logo%20SUBTEL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8:56:22Z</dcterms:created>
  <dc:creator>evega</dc:creator>
  <dc:description/>
  <dc:language>en-US</dc:language>
  <cp:lastModifiedBy>Fabiola Diaz</cp:lastModifiedBy>
  <cp:lastPrinted>2001-10-11T01:35:12Z</cp:lastPrinted>
  <dcterms:modified xsi:type="dcterms:W3CDTF">2001-10-16T03:55:23Z</dcterms:modified>
  <cp:revision>239</cp:revision>
  <dc:subject/>
  <dc:title>Sin título de diapositiva</dc:title>
</cp:coreProperties>
</file>