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EF7B-AB72-4F68-A8EA-C84ED853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67176-688F-4218-91B1-7B22914B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F846-202B-4C89-9278-2B6E7BD5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70EB-7F59-40DB-ABB8-AA47C17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30F84-0C61-4B63-82CF-8E32355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85D7-0CDE-476C-9643-16470966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ECF81-3FD2-4A69-9383-256F618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A3318-7756-4DD0-81B2-364FFE46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5B67-2041-4B0A-B1A2-9545F2E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3E3BF-1FC0-44F7-8DE5-48CE2D4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1553A-117D-438D-A7BB-8052696F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239C-43D2-49CB-8216-FCCF20B7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27800" y="0"/>
            <a:ext cx="2716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399960" y="1044720"/>
            <a:ext cx="8586720" cy="55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633240" indent="-518760">
              <a:spcAft>
                <a:spcPts val="814"/>
              </a:spcAft>
              <a:buClr>
                <a:srgbClr val="6e6f72"/>
              </a:buClr>
              <a:buFont typeface="Futura Bk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10904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5476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2004840" indent="-342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822492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6f72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DAB-35AC-4720-9D02-672183EE6BB6}" type="slidenum">
              <a:rPr b="0" lang="en-US" sz="1200" spc="-1" strike="noStrike">
                <a:solidFill>
                  <a:srgbClr val="6e6f72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p.com/servers/proliantdl18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rent.allen@hp.com" TargetMode="External"/><Relationship Id="rId3" Type="http://schemas.openxmlformats.org/officeDocument/2006/relationships/hyperlink" Target="mailto:tim.golden@hp.com" TargetMode="External"/><Relationship Id="rId4" Type="http://schemas.openxmlformats.org/officeDocument/2006/relationships/hyperlink" Target="mailto:tony.bunn@hp.com" TargetMode="External"/><Relationship Id="rId5" Type="http://schemas.openxmlformats.org/officeDocument/2006/relationships/hyperlink" Target="mailto:naren@hp.com" TargetMode="External"/><Relationship Id="rId6" Type="http://schemas.openxmlformats.org/officeDocument/2006/relationships/hyperlink" Target="mailto:Iekazu.okano@hp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7040" y="846000"/>
          <a:ext cx="8886960" cy="6012000"/>
        </p:xfrm>
        <a:graphic>
          <a:graphicData uri="http://schemas.openxmlformats.org/drawingml/2006/table">
            <a:tbl>
              <a:tblPr/>
              <a:tblGrid>
                <a:gridCol w="2949840"/>
                <a:gridCol w="2973240"/>
                <a:gridCol w="2963880"/>
              </a:tblGrid>
              <a:tr h="6012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1. What is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Intel-based, 2P, 2U form factor, rack-mount server with up to two Intel Xeon 5200 or 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Futura Md"/>
                        </a:rPr>
                        <a:t>11 February 2008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HP will announce the ProLiant DL180 G5 server as follow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Processor refres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Up to two (2) Intel Xeon 5400 sequence quad-core processors running up to 2.66GHz with 8MB Level 2 Ca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2. At-a-g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Available processor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Intel Xeon E5200 or E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30 2.66GHz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20 2.5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05 2.0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205 1.86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dual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Processor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2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Form factor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2U, r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Memory type, protection, and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PC2-5300 DDR2, registered ECC, 16GB maximum mem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I/O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One availabl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type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ot plug SATA /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controller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Embedded SATA RAID controller on non-hot Plug SATA models, HP 8 internal port SAS HBA with RAID 0,1 on Hot Plug SAS/SATA Models, HP Smart Array E200 Controller, HP Smart Array P400 Controller, HP Smart Array P800 Controller, HP SC11Xe and SC44Ge Host Bus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mote management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Lights-Out 100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High availabil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750W and 1200W power supply (redundant non-hot Plug, auto switching), 1200W power supply is option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arranty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1-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3. Customer 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Look for customers with the following business challeng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owing businesses with expandability requirements who need </a:t>
                      </a: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large internal storage capacity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ncludes a mixture of PCI-X and x8 PCI-Express I/O slots which allows users to choose the expansion card technology. The DL180 G5 also includes SAS and SATA internal storage 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 which provides up to 3.6TB and 9TB of storage, respectively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rovides customers with the option to grow their hardware requirements as their business grow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mall and medium businesses adding low-cost/high-capacity storage technologies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offers customers the flexibility of using universal hard drives for storage, either 12 – 300GB SAS drives or 12 – 750GB SATA drive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mmonality focus, within and across platforms, increases IT productivit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Space-constrained corporate datacenters and large scale service providers. 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fits all the storage, memory, and I/O features into a 2U rack. Features such as an a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bidextrous cable management, quick deploy rail solution, q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ick release levers, and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ol-free modular components provide fast access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aking racking easier in space constrained datacenter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affordable, space-saving solution that is ideal for customers who need to maximize space. Features enhance reliability and simplifies configuration, maintenance, and provides easy access to components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4. Qualifying the custo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een light deals (must wi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st conscious SMB or growing busin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expandability and large storage capacity at a low c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Yellow light deals (more qualifi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spaced constrain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oes not need large storage capa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d light deals (walk away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5. Further information/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or QuickSpecs, white papers, and technical documentation, go to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DL80 G5 on 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eb5f01"/>
                          </a:solidFill>
                          <a:uFillTx/>
                          <a:latin typeface="Futura Hv"/>
                          <a:hlinkClick r:id="rId1"/>
                        </a:rPr>
                        <a:t>http://www.hp.com/servers/proliantdl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31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5" name=""/>
          <p:cNvSpPr/>
          <p:nvPr/>
        </p:nvSpPr>
        <p:spPr>
          <a:xfrm>
            <a:off x="6167520" y="3286080"/>
            <a:ext cx="142920" cy="1429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6138720" y="4152960"/>
            <a:ext cx="142920" cy="142920"/>
          </a:xfrm>
          <a:prstGeom prst="ellipse">
            <a:avLst/>
          </a:prstGeom>
          <a:solidFill>
            <a:srgbClr val="f2a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"/>
          <p:cNvSpPr/>
          <p:nvPr/>
        </p:nvSpPr>
        <p:spPr>
          <a:xfrm>
            <a:off x="6148440" y="476244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79760" y="5530680"/>
            <a:ext cx="1835280" cy="9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42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036800"/>
          <a:ext cx="8224920" cy="5574960"/>
        </p:xfrm>
        <a:graphic>
          <a:graphicData uri="http://schemas.openxmlformats.org/drawingml/2006/table">
            <a:tbl>
              <a:tblPr/>
              <a:tblGrid>
                <a:gridCol w="1604880"/>
                <a:gridCol w="3241800"/>
                <a:gridCol w="3378240"/>
              </a:tblGrid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P ProLiant DL180 G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ell PowerEdge 2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Form facto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Processor option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400 (quad core) or 5200 (dual 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300 (quad-core) or 5100 (dual-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ax processor cor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400 sequence), 4 (52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300 sequence), 4 (51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Cach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MB (54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5300 2x4MB, 5100 4MB, 5000 Sequence 2x2M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min/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16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32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DDR2-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FBD 533MHz or 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protec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egistered 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4032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Bays inform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upport for one (optional) multi-bay D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ptional floppy (USB only, USB ke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Hard drive b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max inter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3.6TB SAS, 9TB S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4.5T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3960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RAID sup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457200"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technolo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60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slot typ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ree PCI slots, either PCIe riser with three PCI-Express slots (one x4 (x8 connector) and two x8) or two PCI-X 64-bit/133MHz and one PCI-Express x8 sl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8146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igh availability (hot swap, redundant power supply or fan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750W or 1200 W power supply (redundant non-hot plug, auto switching), 1200W is 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C configuration with standard single or redundant 750W hot-plug auto-switching universal 110/220V AC power supplies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C configuration with redundant hot plug -48 to -60 V20 A DC power suppl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716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明朝"/>
                        </a:rPr>
                        <a:t>Regional conta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W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Brent Alle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2"/>
                        </a:rPr>
                        <a:t>brent.all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S —  Tim Golden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3"/>
                        </a:rPr>
                        <a:t>tim.gold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EMEA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Tony Bun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4"/>
                        </a:rPr>
                        <a:t>tony.bunn@hp.com</a:t>
                      </a: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P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Naren Nuggehalli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5"/>
                        </a:rPr>
                        <a:t>nar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Japan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Iekazu Okano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6"/>
                        </a:rPr>
                        <a:t>Iekazu.okano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06:50Z</dcterms:created>
  <dc:creator>Centers of Expertise, HP </dc:creator>
  <dc:description>© Copyright 1996, 1997–2006 Hewlett-Packard Development Company, L.P.; HP Restricted
</dc:description>
  <dc:language>en-US</dc:language>
  <cp:lastModifiedBy>BOB BURDEN</cp:lastModifiedBy>
  <cp:lastPrinted>2005-02-04T03:07:35Z</cp:lastPrinted>
  <dcterms:modified xsi:type="dcterms:W3CDTF">2008-01-17T18:36:15Z</dcterms:modified>
  <cp:revision>269</cp:revision>
  <dc:subject/>
  <dc:title>New Product Introduction Quick Reference C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