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FD9-C257-42F9-821D-7D9D9737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CBA-BBDD-47B5-B40D-F17D8A05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4571-9005-4385-AC12-08B10028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613-D9E0-4553-9CA5-9B43A766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54C-2ED0-406A-A9E9-68E9F8C9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96F-9F37-43A1-BC1D-52887098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145-9A0D-4DF6-800F-7897C100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5CD-58E3-4E6B-A403-424E8BC5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4E5-C7D6-42C4-B981-D40AF408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6B7-4BD8-42A3-8D59-315EAF6B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B387-F880-4DF5-A06C-F5220EB0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AE0-DA4C-4305-9C02-64378847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7B1E-7621-4FDF-BA93-AC1F4E633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26720" y="0"/>
            <a:ext cx="547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Fibre Channel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21120" y="3324240"/>
            <a:ext cx="24685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Storage controllers, cache, batterie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2-B21   HSG80 RAID Array Controller w/ 256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674-B21   HSx80 256MB cache (2*128MB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3-B21   HSG80 Cache bulkhead upgra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35360" y="53211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225440" y="533520"/>
            <a:ext cx="7920" cy="21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91200" y="552600"/>
            <a:ext cx="0" cy="24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59880" y="6391440"/>
            <a:ext cx="18334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0" y="5435640"/>
            <a:ext cx="17892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040" y="3724200"/>
            <a:ext cx="23940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065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</a:t>
            </a:r>
            <a:r>
              <a:rPr b="0" lang="en-US" sz="7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 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5200" y="5030640"/>
            <a:ext cx="231012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Compaq 9000 Series Rack, op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3-B22  9142 4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0-B21 Side Pa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3-B21 Rack Stabiliz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9-B21 Multi-Bay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7/678-B21 Fan Kit 110/220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9940-B21 Blank Panel Kit (Qty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2 PDU DOM 16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-2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3 PDU DOM 32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 ft L6-3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rder 91xx  with 1 or 2 P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Not all options show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33480" y="5249880"/>
            <a:ext cx="574920" cy="1474560"/>
            <a:chOff x="1833480" y="5249880"/>
            <a:chExt cx="574920" cy="1474560"/>
          </a:xfrm>
        </p:grpSpPr>
        <p:sp>
          <p:nvSpPr>
            <p:cNvPr id="55" name=""/>
            <p:cNvSpPr/>
            <p:nvPr/>
          </p:nvSpPr>
          <p:spPr>
            <a:xfrm>
              <a:off x="1833480" y="5249880"/>
              <a:ext cx="574920" cy="14079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3480" y="6670440"/>
              <a:ext cx="150120" cy="52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6672240"/>
              <a:ext cx="149760" cy="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761120" y="5326200"/>
            <a:ext cx="727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mp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t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OPAL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33480" y="6119640"/>
            <a:ext cx="560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 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91080" y="593424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0400" y="0"/>
            <a:ext cx="113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26240" y="2911320"/>
            <a:ext cx="18414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-path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89-B21 Secure Path V3.1 for W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91-B21 Secure Path V2.1 for S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/F500 Clus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sic 103250-B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045960" y="2698560"/>
            <a:ext cx="3240" cy="22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999120" y="3015720"/>
            <a:ext cx="8812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08360" y="5454360"/>
            <a:ext cx="32259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6600" y="29844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84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ler Enclo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3440" y="1095480"/>
            <a:ext cx="43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1680" y="17114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17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5820-B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6560"/>
            <a:ext cx="123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(2) 180W Power Supplies, (3) Fans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UltraSCSI I/O Modules, EMU, (2) IEC C13-C14 Power Cords, RETMA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ounting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480" y="2673360"/>
            <a:ext cx="68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95440" y="4191120"/>
            <a:ext cx="16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3x0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08000" y="4946760"/>
            <a:ext cx="32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1600" y="4873680"/>
            <a:ext cx="30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6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Meter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7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2M, 189505-B21 3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3-005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5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5-010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3280" y="5506920"/>
            <a:ext cx="555840" cy="1226880"/>
            <a:chOff x="4643280" y="5506920"/>
            <a:chExt cx="555840" cy="1226880"/>
          </a:xfrm>
        </p:grpSpPr>
        <p:sp>
          <p:nvSpPr>
            <p:cNvPr id="80" name=""/>
            <p:cNvSpPr/>
            <p:nvPr/>
          </p:nvSpPr>
          <p:spPr>
            <a:xfrm>
              <a:off x="4643280" y="5506920"/>
              <a:ext cx="555840" cy="1171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3280" y="6689160"/>
              <a:ext cx="145080" cy="43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54040" y="6690600"/>
              <a:ext cx="144720" cy="43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153040" y="5433840"/>
            <a:ext cx="2851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odular Storage Cabinet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1-B21  42U  (opal) 6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2-B22  42U  (opal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3-B21  36U  (opal) 6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4-B22  36U  (opal) 5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5-B21  22U  (opal) 6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6-B22  22U  (opal) 5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7-B21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60Hz w/ (26) IEC320-C13 - C14 Power Cord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8-B22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4160" y="5608800"/>
            <a:ext cx="6940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 ava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0360" y="6446880"/>
            <a:ext cx="2515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ll Modular Storage Cabs includ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ont &amp; back doors, Side panels, (2) 2U 24Amp PDUs each with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15’ L6-30P input Power Cord, (16) IEC320-C13 receptac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5160" y="598320"/>
            <a:ext cx="65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8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58800" y="177480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104240" y="820800"/>
            <a:ext cx="632880" cy="947520"/>
            <a:chOff x="7104240" y="820800"/>
            <a:chExt cx="632880" cy="947520"/>
          </a:xfrm>
        </p:grpSpPr>
        <p:sp>
          <p:nvSpPr>
            <p:cNvPr id="89" name=""/>
            <p:cNvSpPr/>
            <p:nvPr/>
          </p:nvSpPr>
          <p:spPr>
            <a:xfrm>
              <a:off x="7104240" y="820800"/>
              <a:ext cx="632880" cy="9046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04240" y="173340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72240" y="173448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620560" y="36828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87520" y="2097000"/>
            <a:ext cx="1003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99480" y="561960"/>
            <a:ext cx="633240" cy="1550880"/>
            <a:chOff x="8799480" y="56196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99480" y="561960"/>
              <a:ext cx="633240" cy="14810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99480" y="2055600"/>
              <a:ext cx="164880" cy="558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67840" y="2057400"/>
              <a:ext cx="164880" cy="554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 flipH="1" flipV="1">
            <a:off x="7838640" y="3022560"/>
            <a:ext cx="1260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840" y="5442120"/>
            <a:ext cx="190296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Storage Area Network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 SAN Switch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3-B21  FC SAN Switch 16 por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2-B21  FC SAN Switch 8 po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  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365-B21  8/16 SAN Switch Brac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407-B21  8/16 SAN Switch Power o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BICs, Connection K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1-B21 Optical Short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9-B21 Kit 3 SW 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96-B21 Kit 2 SW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7508-B21 Optical Long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520" y="576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1440" y="523800"/>
            <a:ext cx="586260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platform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, 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.S. Version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G80 SFT Ki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Adapters(AKA);Bu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C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 Path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igh Availability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NT X86 NT4.0/W2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79-B21(DS-KGPSA-CB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T   4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 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4.0F/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3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Tru64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Cluster 1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4.0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Configured and ordered through CSS only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    (NOT YET AVAILABLE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5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olaris 2.6, 7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4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503-001(DS-SWSA4-SC); SBU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 V2.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irstWatch onV2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6-001(SWSA4-P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CS V1.01 on V2.6,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.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etWare  4.2,5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9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18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GI IRIX 6.5.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6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0 SGI XT-FC-2P:XIO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 SGI PCI-FC-IP;PCI (requires X-F-OE-KIT (MIA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-UX 10.2, 1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K Class A3404A;HSC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         Pvlinks in HP-UX 10.2 MC Service Guard Switch,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D Class A3591A;G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BM AIX 4.2.1, 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8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9841-B21 PCI for RS/600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ACMP V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Alph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ProLian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5800" y="2685960"/>
            <a:ext cx="282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G80 Array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G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7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/SW  Softwar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91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Software w/CLONE+SNAPSHO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V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Data Replication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1809720" y="4946400"/>
            <a:ext cx="14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05040" y="4930920"/>
            <a:ext cx="60357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3880" y="355680"/>
            <a:ext cx="11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Predefined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56720" y="785880"/>
            <a:ext cx="632880" cy="1417320"/>
            <a:chOff x="7956720" y="785880"/>
            <a:chExt cx="632880" cy="1417320"/>
          </a:xfrm>
        </p:grpSpPr>
        <p:sp>
          <p:nvSpPr>
            <p:cNvPr id="107" name=""/>
            <p:cNvSpPr/>
            <p:nvPr/>
          </p:nvSpPr>
          <p:spPr>
            <a:xfrm>
              <a:off x="7956720" y="785880"/>
              <a:ext cx="63288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56720" y="215100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24720" y="215280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856280" y="592200"/>
            <a:ext cx="950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S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39720" y="218124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1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36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  431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04760" y="511344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Cables 50 Micron Short Wave Multi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4457-B21/B22/B23/B24/B2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tical cables (2/5/15/30/50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81240"/>
            <a:ext cx="304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0338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- Single Bus, 14 Bay Device Enclosure, RETMA mounting kit, (2) Blowers, (1) Power Supply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557520"/>
            <a:ext cx="313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381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254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1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4R - Dual Bus, 14 Bay Device Enclosure, RETMA mounting kit, (2) Blowers,  (2) Power Supplies, (2) IEC-C13 to NEMA 5-15P Power Cords, (2) IEC-C13 to IEC-C14 Power Cords.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00720"/>
            <a:ext cx="303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1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- Single Bus, 10 Bay Device Enclosure, RETMA mounting kit, (2) Blowers, (2) Power Supplies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34080"/>
            <a:ext cx="1803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0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0R - Dual Bus, 10 Bay Device Enclosure, RETMA mounting kit, (2) Blowers, (2) Power Supplies (2) IEC-C13 to NEMA 5-15P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4000" y="280512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2x4, 43x4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05680" y="97164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7360" y="93996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12160" y="1181160"/>
            <a:ext cx="6159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24760" y="1206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dual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50240" y="1066680"/>
            <a:ext cx="6350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1920" y="103500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56720" y="1276200"/>
            <a:ext cx="622080" cy="5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69320" y="1301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6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01560" y="3359160"/>
            <a:ext cx="1003320" cy="2876760"/>
            <a:chOff x="7801560" y="3359160"/>
            <a:chExt cx="1003320" cy="2876760"/>
          </a:xfrm>
        </p:grpSpPr>
        <p:grpSp>
          <p:nvGrpSpPr>
            <p:cNvPr id="127" name=""/>
            <p:cNvGrpSpPr/>
            <p:nvPr/>
          </p:nvGrpSpPr>
          <p:grpSpPr>
            <a:xfrm>
              <a:off x="7918560" y="3543480"/>
              <a:ext cx="632880" cy="1540800"/>
              <a:chOff x="7918560" y="3543480"/>
              <a:chExt cx="632880" cy="1540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918560" y="3543480"/>
                <a:ext cx="63288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18560" y="502776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86560" y="502920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801560" y="3359160"/>
              <a:ext cx="1003320" cy="2876760"/>
              <a:chOff x="7801560" y="3359160"/>
              <a:chExt cx="1003320" cy="2876760"/>
            </a:xfrm>
          </p:grpSpPr>
          <p:sp>
            <p:nvSpPr>
              <p:cNvPr id="132" name=""/>
              <p:cNvSpPr/>
              <p:nvPr/>
            </p:nvSpPr>
            <p:spPr>
              <a:xfrm>
                <a:off x="7808760" y="3359160"/>
                <a:ext cx="9500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S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801560" y="5062680"/>
                <a:ext cx="100332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4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M2200 Enclos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  431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12080" y="3962520"/>
                <a:ext cx="635040" cy="19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43760" y="3930480"/>
                <a:ext cx="5842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(1) M2200 enclosur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918560" y="4172040"/>
                <a:ext cx="628560" cy="58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31160" y="4197240"/>
                <a:ext cx="5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6 single bus 10-bay drive enclosure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8807400" y="88272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39080" y="84132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07400" y="1092240"/>
            <a:ext cx="6224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26480" y="11174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643960" y="3314880"/>
            <a:ext cx="1047240" cy="2927160"/>
            <a:chOff x="8643960" y="3314880"/>
            <a:chExt cx="1047240" cy="2927160"/>
          </a:xfrm>
        </p:grpSpPr>
        <p:grpSp>
          <p:nvGrpSpPr>
            <p:cNvPr id="143" name=""/>
            <p:cNvGrpSpPr/>
            <p:nvPr/>
          </p:nvGrpSpPr>
          <p:grpSpPr>
            <a:xfrm>
              <a:off x="8643960" y="3314880"/>
              <a:ext cx="1047240" cy="2927160"/>
              <a:chOff x="8643960" y="3314880"/>
              <a:chExt cx="1047240" cy="29271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8807400" y="3527280"/>
                <a:ext cx="633240" cy="1550880"/>
                <a:chOff x="8807400" y="3527280"/>
                <a:chExt cx="633240" cy="155088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8807400" y="3527280"/>
                  <a:ext cx="633240" cy="1550880"/>
                  <a:chOff x="8807400" y="3527280"/>
                  <a:chExt cx="633240" cy="1550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8807400" y="3527280"/>
                    <a:ext cx="633240" cy="1481040"/>
                  </a:xfrm>
                  <a:prstGeom prst="rect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8807400" y="5020920"/>
                    <a:ext cx="164880" cy="5580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9275760" y="5022720"/>
                    <a:ext cx="164880" cy="554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" name=""/>
                <p:cNvSpPr/>
                <p:nvPr/>
              </p:nvSpPr>
              <p:spPr>
                <a:xfrm>
                  <a:off x="8807400" y="3543480"/>
                  <a:ext cx="622440" cy="19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13880" y="374652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807400" y="401940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813880" y="422280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807400" y="450216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813880" y="4705200"/>
                  <a:ext cx="615960" cy="2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8643960" y="3314880"/>
                <a:ext cx="9684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D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64840" y="5068800"/>
                <a:ext cx="102636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0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3)   M220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9)   4354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8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8807400" y="350820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26480" y="370188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07400" y="398448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26480" y="417816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07400" y="446724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26480" y="466092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038400" y="4133880"/>
            <a:ext cx="1876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nclosure 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Dual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2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Single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Dual Bus I/0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M2_Front" descr=""/>
          <p:cNvPicPr/>
          <p:nvPr/>
        </p:nvPicPr>
        <p:blipFill>
          <a:blip r:embed="rId1"/>
          <a:stretch/>
        </p:blipFill>
        <p:spPr>
          <a:xfrm>
            <a:off x="160200" y="766800"/>
            <a:ext cx="1009800" cy="314280"/>
          </a:xfrm>
          <a:prstGeom prst="rect">
            <a:avLst/>
          </a:prstGeom>
          <a:ln w="0">
            <a:noFill/>
          </a:ln>
        </p:spPr>
      </p:pic>
      <p:pic>
        <p:nvPicPr>
          <p:cNvPr id="165" name="M2_Rear" descr=""/>
          <p:cNvPicPr/>
          <p:nvPr/>
        </p:nvPicPr>
        <p:blipFill>
          <a:blip r:embed="rId2"/>
          <a:stretch/>
        </p:blipFill>
        <p:spPr>
          <a:xfrm>
            <a:off x="160200" y="1355760"/>
            <a:ext cx="951120" cy="353880"/>
          </a:xfrm>
          <a:prstGeom prst="rect">
            <a:avLst/>
          </a:prstGeom>
          <a:ln w="0">
            <a:noFill/>
          </a:ln>
        </p:spPr>
      </p:pic>
      <p:pic>
        <p:nvPicPr>
          <p:cNvPr id="166" name="Star10c" descr=""/>
          <p:cNvPicPr/>
          <p:nvPr/>
        </p:nvPicPr>
        <p:blipFill>
          <a:blip r:embed="rId3"/>
          <a:stretch/>
        </p:blipFill>
        <p:spPr>
          <a:xfrm>
            <a:off x="125280" y="4133880"/>
            <a:ext cx="115596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Star14a" descr=""/>
          <p:cNvPicPr/>
          <p:nvPr/>
        </p:nvPicPr>
        <p:blipFill>
          <a:blip r:embed="rId4"/>
          <a:stretch/>
        </p:blipFill>
        <p:spPr>
          <a:xfrm>
            <a:off x="0" y="2705040"/>
            <a:ext cx="1257480" cy="419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19440" y="3171960"/>
            <a:ext cx="501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ilmerK</cp:lastModifiedBy>
  <cp:lastPrinted>2000-07-18T16:33:02Z</cp:lastPrinted>
  <dcterms:modified xsi:type="dcterms:W3CDTF">2000-08-01T16:51:07Z</dcterms:modified>
  <cp:revision>72</cp:revision>
  <dc:subject/>
  <dc:title>No Slide Title</dc:title>
</cp:coreProperties>
</file>