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708-2FC3-4E11-A56B-0C6040CF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7EB-79CE-4875-970A-FCBEB9B7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C9F-A1B0-4860-8261-32468213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A47-868F-4B6E-9856-A3C6A4BC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27DE-ADFE-4F8F-830F-A8A37B86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E6CB-1EE2-4AF7-8795-98C48584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E213-6A8A-48B8-A351-AFAD2C49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A246-F968-4FA8-807D-6AF04254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52E9-AD6A-47DB-BC4E-33F2C354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3964-791F-40D5-A193-2178F5D8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415D-7DD2-43CF-99DE-D546DFB9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616-418D-46BA-A6D7-BFC3CAAA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FDC0-EC23-435C-9840-6E24E368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225C-4B6A-4438-BE82-CD68EE80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280D-0D7D-4107-8EBF-A2CD5A77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3EA3-CBF9-4BFA-AC9F-DC8ED4F3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40E7-05A9-4911-AEEE-F80F05DE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DA4-42EA-4C8B-8FCC-A24C770F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2DE3-CD66-4B98-B4CF-B80A8C19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F35-5232-4FB9-9A70-6C4175BF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8AA-0250-42F4-BD58-EFBA9C11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1D6-C839-4A8D-9241-EAA23C88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858-A718-4594-BC07-A3A51B31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086-285B-44F6-81DB-0F5CAB1E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892F-DEF3-4D87-9E80-454E9C51D24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1F52-CD4E-47B5-9222-1C8D79EBF30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Effective Study Skill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99840" y="2693880"/>
            <a:ext cx="66294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ategies for College Success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Presented by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obby McDonal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book" descr="book"/>
          <p:cNvPicPr/>
          <p:nvPr/>
        </p:nvPicPr>
        <p:blipFill>
          <a:blip r:embed="rId1"/>
          <a:stretch/>
        </p:blipFill>
        <p:spPr>
          <a:xfrm>
            <a:off x="3429000" y="4876920"/>
            <a:ext cx="26478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aging Your Tim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ke a weekly schedu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ist specific study times for all subjec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lan time for relaxation and slee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read study time throughout the wee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ick to your schedu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vise your schedule when necessar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ttending Cla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t in the front of the roo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k questions at appropriate tim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ake no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phrase ideas in your own wo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view immediately after cla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ding Your Textboo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urvey the assig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ad the summary and chapter ques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ad the chapter careful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cite the material in your own wor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rite brief notes in the margi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view the entire assig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0:18:42Z</dcterms:created>
  <dc:creator>AMD</dc:creator>
  <dc:description/>
  <dc:language>en-US</dc:language>
  <cp:lastModifiedBy> Debbie</cp:lastModifiedBy>
  <dcterms:modified xsi:type="dcterms:W3CDTF">2002-05-05T21:03:39Z</dcterms:modified>
  <cp:revision>3</cp:revision>
  <dc:subject/>
  <dc:title>Effective Study Skills</dc:title>
</cp:coreProperties>
</file>