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7D7-F9B1-4414-B284-840AF86E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1A1-47F0-4572-8D91-B1836F55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A65-9624-48C6-A3F9-99FC3CF6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603-99CC-425F-8465-9FCA384F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5651-3D3B-4937-B29B-8181582C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0E16-BCE6-4437-9389-B64F0B63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3083-4504-4822-8334-C473C713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5F2F-C8B2-4CAF-B3DA-E86A3C2D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C0A6-E7D8-4531-A1FD-0FEF0026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0E11-8A98-4049-98C3-CE5C9EF2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A52D-1246-43E6-ABDA-796AFE60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CDB-0624-487C-A2BA-28D1B671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CD68-8BA8-407F-BDBC-96182D6A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7D69-6697-4E38-931D-883DE873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F128-0B7E-439A-9349-A6ACF060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41B5-2EA1-4DAA-B9AA-FB2CB3C2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7419-834B-42BB-A797-A7BA3D11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BAF-95E0-4FCB-A467-F1E96A39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2E8C-E439-4E95-8F17-7EC46607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471-E333-45A1-B907-6AF02E3F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0416-31FD-427E-8BDC-C81D5958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15C8-2F92-4A94-A9E8-773FA517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A585-5357-4DC1-A151-ADFD7B6D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C9FB-13B7-4FF4-9213-35DC6B02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9DE6-48DF-490D-AE28-79B1BFF2B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D339-4E1B-49DB-93F3-328837CA71F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BobbyMcDonaldA3@Yahoo.com" TargetMode="External"/><Relationship Id="rId2" Type="http://schemas.openxmlformats.org/officeDocument/2006/relationships/hyperlink" Target="http://www.geocities.com/BobbyMcDonaldA3/index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Fun-N-Sun Sojourn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114800" y="3580920"/>
            <a:ext cx="3960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Travel Agency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pecializing in Beach Resorts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3760" y="251460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hamas Re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tona De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West Ha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 Padre Del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each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4038840" cy="3048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286000" y="762120"/>
          <a:ext cx="5715000" cy="19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62120"/>
                    <a:ext cx="5715000" cy="19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286000" y="3048120"/>
          <a:ext cx="5791320" cy="2590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048120"/>
                    <a:ext cx="57913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We leave from a marina near you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264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62320" y="1828800"/>
            <a:ext cx="5339880" cy="4016160"/>
            <a:chOff x="2362320" y="1828800"/>
            <a:chExt cx="5339880" cy="4016160"/>
          </a:xfrm>
        </p:grpSpPr>
        <p:grpSp>
          <p:nvGrpSpPr>
            <p:cNvPr id="95" name=""/>
            <p:cNvGrpSpPr/>
            <p:nvPr/>
          </p:nvGrpSpPr>
          <p:grpSpPr>
            <a:xfrm>
              <a:off x="2370600" y="1835640"/>
              <a:ext cx="5321520" cy="4001400"/>
              <a:chOff x="2370600" y="1835640"/>
              <a:chExt cx="5321520" cy="400140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2370600" y="1835640"/>
                <a:ext cx="1928880" cy="363240"/>
                <a:chOff x="2370600" y="1835640"/>
                <a:chExt cx="1928880" cy="3632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370600" y="1835640"/>
                  <a:ext cx="1928880" cy="363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370600" y="1835640"/>
                  <a:ext cx="1928520" cy="362880"/>
                  <a:chOff x="2370600" y="1835640"/>
                  <a:chExt cx="1928520" cy="3628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2370600" y="1835640"/>
                    <a:ext cx="1928520" cy="362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Nam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2370600" y="1835640"/>
                    <a:ext cx="1928520" cy="3628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1" name=""/>
              <p:cNvGrpSpPr/>
              <p:nvPr/>
            </p:nvGrpSpPr>
            <p:grpSpPr>
              <a:xfrm>
                <a:off x="4299840" y="1835640"/>
                <a:ext cx="1920240" cy="363240"/>
                <a:chOff x="4299840" y="1835640"/>
                <a:chExt cx="1920240" cy="3632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299840" y="1835640"/>
                  <a:ext cx="1920240" cy="363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4299840" y="1835640"/>
                  <a:ext cx="1919880" cy="362880"/>
                  <a:chOff x="4299840" y="1835640"/>
                  <a:chExt cx="1919880" cy="36288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4299840" y="1835640"/>
                    <a:ext cx="1919880" cy="362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ddres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4299840" y="1835640"/>
                    <a:ext cx="1919880" cy="3628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" name=""/>
              <p:cNvGrpSpPr/>
              <p:nvPr/>
            </p:nvGrpSpPr>
            <p:grpSpPr>
              <a:xfrm>
                <a:off x="6220800" y="1835640"/>
                <a:ext cx="1471320" cy="363240"/>
                <a:chOff x="6220800" y="1835640"/>
                <a:chExt cx="1471320" cy="3632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220800" y="1835640"/>
                  <a:ext cx="1471320" cy="363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"/>
                <p:cNvGrpSpPr/>
                <p:nvPr/>
              </p:nvGrpSpPr>
              <p:grpSpPr>
                <a:xfrm>
                  <a:off x="6220800" y="1835640"/>
                  <a:ext cx="1470960" cy="362880"/>
                  <a:chOff x="6220800" y="1835640"/>
                  <a:chExt cx="1470960" cy="36288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6220800" y="1835640"/>
                    <a:ext cx="1470960" cy="362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Ci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6220800" y="1835640"/>
                    <a:ext cx="1470960" cy="3628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" name=""/>
              <p:cNvGrpSpPr/>
              <p:nvPr/>
            </p:nvGrpSpPr>
            <p:grpSpPr>
              <a:xfrm>
                <a:off x="2370600" y="2199240"/>
                <a:ext cx="1928880" cy="363240"/>
                <a:chOff x="2370600" y="2199240"/>
                <a:chExt cx="1928880" cy="363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370600" y="219924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an's Dock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70600" y="219924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299840" y="2199240"/>
                <a:ext cx="1920240" cy="363240"/>
                <a:chOff x="4299840" y="2199240"/>
                <a:chExt cx="1920240" cy="3632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299840" y="219924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14 Centr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299840" y="219924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6220800" y="2199240"/>
                <a:ext cx="1471320" cy="363240"/>
                <a:chOff x="6220800" y="2199240"/>
                <a:chExt cx="1471320" cy="3632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220800" y="219924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urt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220800" y="219924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2370600" y="2562840"/>
                <a:ext cx="1928880" cy="363240"/>
                <a:chOff x="2370600" y="2562840"/>
                <a:chExt cx="1928880" cy="3632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370600" y="256284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fton's Mari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370600" y="256284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299840" y="2562840"/>
                <a:ext cx="1920240" cy="363240"/>
                <a:chOff x="4299840" y="2562840"/>
                <a:chExt cx="1920240" cy="3632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299840" y="256284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 West 8t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299840" y="256284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6220800" y="2562840"/>
                <a:ext cx="1471320" cy="363240"/>
                <a:chOff x="6220800" y="2562840"/>
                <a:chExt cx="1471320" cy="3632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220800" y="256284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lenvi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220800" y="256284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370600" y="2926800"/>
                <a:ext cx="1928880" cy="363240"/>
                <a:chOff x="2370600" y="2926800"/>
                <a:chExt cx="1928880" cy="3632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370600" y="292680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rites Landin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70600" y="292680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299840" y="2926800"/>
                <a:ext cx="1920240" cy="363240"/>
                <a:chOff x="4299840" y="2926800"/>
                <a:chExt cx="1920240" cy="3632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299840" y="292680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1 Robi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299840" y="292680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220800" y="2926800"/>
                <a:ext cx="1471320" cy="363240"/>
                <a:chOff x="6220800" y="2926800"/>
                <a:chExt cx="1471320" cy="3632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220800" y="292680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urt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220800" y="292680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370600" y="3290400"/>
                <a:ext cx="1928880" cy="363240"/>
                <a:chOff x="2370600" y="3290400"/>
                <a:chExt cx="1928880" cy="363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370600" y="329040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lend Mari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370600" y="329040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299840" y="3290400"/>
                <a:ext cx="1920240" cy="363240"/>
                <a:chOff x="4299840" y="3290400"/>
                <a:chExt cx="1920240" cy="3632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299840" y="329040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2 Riv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299840" y="329040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220800" y="3290400"/>
                <a:ext cx="1471320" cy="363240"/>
                <a:chOff x="6220800" y="3290400"/>
                <a:chExt cx="1471320" cy="3632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6220800" y="329040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orin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220800" y="329040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370600" y="3654360"/>
                <a:ext cx="1928880" cy="363600"/>
                <a:chOff x="2370600" y="3654360"/>
                <a:chExt cx="1928880" cy="3636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370600" y="3654360"/>
                  <a:ext cx="192888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nton's Boa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370600" y="3654360"/>
                  <a:ext cx="1928880" cy="36360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299840" y="3654360"/>
                <a:ext cx="1920240" cy="363600"/>
                <a:chOff x="4299840" y="3654360"/>
                <a:chExt cx="1920240" cy="3636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299840" y="3654360"/>
                  <a:ext cx="192024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6 Bayvi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299840" y="3654360"/>
                  <a:ext cx="1920240" cy="36360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6220800" y="3654360"/>
                <a:ext cx="1471320" cy="363600"/>
                <a:chOff x="6220800" y="3654360"/>
                <a:chExt cx="1471320" cy="3636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220800" y="3654360"/>
                  <a:ext cx="147132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avel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220800" y="3654360"/>
                  <a:ext cx="1471320" cy="36360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370600" y="4018680"/>
                <a:ext cx="1928880" cy="363240"/>
                <a:chOff x="2370600" y="4018680"/>
                <a:chExt cx="1928880" cy="3632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370600" y="401868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dder Mai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370600" y="401868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299840" y="4018680"/>
                <a:ext cx="1920240" cy="363240"/>
                <a:chOff x="4299840" y="4018680"/>
                <a:chExt cx="1920240" cy="3632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299840" y="401868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3 Waterfron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299840" y="401868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220800" y="4018680"/>
                <a:ext cx="1471320" cy="363240"/>
                <a:chOff x="6220800" y="4018680"/>
                <a:chExt cx="1471320" cy="36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220800" y="401868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urt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220800" y="401868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370600" y="4382280"/>
                <a:ext cx="1928880" cy="363240"/>
                <a:chOff x="2370600" y="4382280"/>
                <a:chExt cx="1928880" cy="3632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370600" y="438228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JT Boat Clu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370600" y="438228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299840" y="4382280"/>
                <a:ext cx="1920240" cy="363240"/>
                <a:chOff x="4299840" y="4382280"/>
                <a:chExt cx="1920240" cy="3632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299840" y="438228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 Causewa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299840" y="438228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6220800" y="4382280"/>
                <a:ext cx="1471320" cy="363240"/>
                <a:chOff x="6220800" y="4382280"/>
                <a:chExt cx="1471320" cy="3632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6220800" y="438228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orin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220800" y="438228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370600" y="4746240"/>
                <a:ext cx="1928880" cy="363240"/>
                <a:chOff x="2370600" y="4746240"/>
                <a:chExt cx="1928880" cy="3632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370600" y="474624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elson's Whar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370600" y="474624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299840" y="4746240"/>
                <a:ext cx="1920240" cy="363240"/>
                <a:chOff x="4299840" y="4746240"/>
                <a:chExt cx="1920240" cy="363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99840" y="474624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7 Lak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299840" y="474624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220800" y="4746240"/>
                <a:ext cx="1471320" cy="363240"/>
                <a:chOff x="6220800" y="4746240"/>
                <a:chExt cx="1471320" cy="363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220800" y="474624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sonda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220800" y="474624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370600" y="5109840"/>
                <a:ext cx="1928880" cy="363240"/>
                <a:chOff x="2370600" y="5109840"/>
                <a:chExt cx="1928880" cy="3632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370600" y="510984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olton's Mar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370600" y="510984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299840" y="5109840"/>
                <a:ext cx="1920240" cy="363240"/>
                <a:chOff x="4299840" y="5109840"/>
                <a:chExt cx="1920240" cy="3632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299840" y="510984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67 Bay Bridg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299840" y="510984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220800" y="5109840"/>
                <a:ext cx="1471320" cy="363240"/>
                <a:chOff x="6220800" y="5109840"/>
                <a:chExt cx="1471320" cy="3632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220800" y="510984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lenvi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220800" y="510984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2370600" y="5473800"/>
                <a:ext cx="1928880" cy="363240"/>
                <a:chOff x="2370600" y="5473800"/>
                <a:chExt cx="1928880" cy="3632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370600" y="547380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he Ree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370600" y="547380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299840" y="5473800"/>
                <a:ext cx="1920240" cy="363240"/>
                <a:chOff x="4299840" y="5473800"/>
                <a:chExt cx="1920240" cy="3632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99840" y="547380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 East Ba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299840" y="547380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6220800" y="5473800"/>
                <a:ext cx="1471320" cy="363240"/>
                <a:chOff x="6220800" y="5473800"/>
                <a:chExt cx="1471320" cy="3632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6220800" y="547380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oodvi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220800" y="547380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1" name=""/>
            <p:cNvSpPr/>
            <p:nvPr/>
          </p:nvSpPr>
          <p:spPr>
            <a:xfrm>
              <a:off x="2362320" y="1828800"/>
              <a:ext cx="5339880" cy="401616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resented b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by McDon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ail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00"/>
                </a:solidFill>
                <a:uFillTx/>
                <a:latin typeface="Times New Roman"/>
                <a:hlinkClick r:id="rId1"/>
              </a:rPr>
              <a:t>BobbyMcDonaldA3@Yahoo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00"/>
                </a:solidFill>
                <a:uFillTx/>
                <a:latin typeface="Times New Roman"/>
                <a:hlinkClick r:id="rId2"/>
              </a:rPr>
              <a:t>http://www.geocities.com/BobbyMcDonaldA3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0:39:11Z</dcterms:created>
  <dc:creator>AMD</dc:creator>
  <dc:description/>
  <dc:language>en-US</dc:language>
  <cp:lastModifiedBy> Debbie</cp:lastModifiedBy>
  <dcterms:modified xsi:type="dcterms:W3CDTF">2002-05-05T20:55:52Z</dcterms:modified>
  <cp:revision>4</cp:revision>
  <dc:subject/>
  <dc:title>Fun-N-Sun Sojourn</dc:title>
</cp:coreProperties>
</file>