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52B-D6F8-4862-A0A8-90C19CFF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E86-1251-4C9A-8F10-75447BA2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F98-56B5-4D7D-8220-63E50CAC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986-1093-4076-A8EA-D69C0C1F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71F-6947-48ED-A278-07598E5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960-99B3-4621-B6F5-E68B6EAE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260-3C05-4E22-8C39-65F0C053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CE4-CBCA-4065-AD87-91236929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881-F8FE-48B9-B9C5-BF3E6DB8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004-A362-401A-B738-3842BEEE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F22-D3FC-4F8D-B2BC-D254CA3F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4C5-A0F6-43E3-A7A2-2A17CE8A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527A-FF8D-4A0A-8E43-001CA100F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8380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ell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74320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66"/>
                </a:solidFill>
                <a:latin typeface="Ransom"/>
              </a:rPr>
              <a:t>DO YOU WANT TO BOOGIE?!?!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533520"/>
            <a:ext cx="6524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 do YOu FeEL Toda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2362320"/>
            <a:ext cx="441936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Snap ITC"/>
              </a:rPr>
              <a:t>ARE YOU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90920" y="4114800"/>
            <a:ext cx="4190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AD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3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ogo1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3597480" cy="4496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5800" y="3200400"/>
            <a:ext cx="304812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UK ! &gt;&gt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33720" y="533520"/>
            <a:ext cx="4403520" cy="39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st Kidding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200400"/>
            <a:ext cx="6172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Got’ch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didn’t I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838080"/>
            <a:ext cx="701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t’s going to be a lonely night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2133720"/>
            <a:ext cx="2600280" cy="260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03848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 lost my wif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3:39:54Z</dcterms:created>
  <dc:creator>David Gilbert</dc:creator>
  <dc:description/>
  <dc:language>en-US</dc:language>
  <cp:lastModifiedBy>David Gilbert</cp:lastModifiedBy>
  <dcterms:modified xsi:type="dcterms:W3CDTF">1999-01-27T14:22:38Z</dcterms:modified>
  <cp:revision>2</cp:revision>
  <dc:subject/>
  <dc:title>No Slide Title</dc:title>
</cp:coreProperties>
</file>