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9E43-4C34-40C7-B2CF-2A3B42C9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C14-3473-443F-A86B-D3914426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44E-D072-46A0-B964-C6F5A6B2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4A7-44EB-4EF7-8217-F6467D4B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9A7C-3862-4535-B291-A0473DCA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72C0-E09E-4CE9-AB7B-474DC90D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5984-7642-4102-9F11-85C193E7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B4C3-5600-4A4A-9334-98BA1098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BE89-8621-442E-ABE9-A097BC47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24F8-D8FE-4437-8AB4-CFC6654C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4C1C-F992-44C4-A3E9-72003C81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38F-E52D-4D95-A930-F172AE43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E9B6-79BE-4178-BFDD-1D9B177F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A03C-F1F0-4B69-97EC-EE662F40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6918-966A-49B1-B0AA-7156C708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81C2-FAC6-4296-9FEE-0A71FE3C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3565-0B20-42EB-953E-E4F7DFF6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39C-4D80-436A-B9DB-15E066ED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995-DA59-449F-9363-A2980615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6F7-206B-4CE3-96B8-C7599D0B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A83-7A64-4E49-883D-120798AD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B95-910D-4796-B27C-8036CCA0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F35-ABE1-4298-8A53-2C8F4456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389-B99A-49E4-88F4-B55F4188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0106-EF7E-4AD7-A9AF-CE92ECDBD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33B3-B735-487B-9B5D-B3FFDBF00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ypical.jpg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oftentimes.jpg" TargetMode="External"/><Relationship Id="rId2" Type="http://schemas.openxmlformats.org/officeDocument/2006/relationships/hyperlink" Target="file:///oftentimes.jpg" TargetMode="External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idlemachine.jpg" TargetMode="External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342900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mphasizing Manufacturing Planning and 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inimal Build Qua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up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429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 Different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L-3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Build Qua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Stock on 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3429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apabilities vary by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L-3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xtensive Material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4038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Needs Difficult to Forec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Build Qua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sh 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34290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e Drive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L-3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Material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RP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4038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ea typeface="Arial"/>
                <a:hlinkClick r:id="rId1"/>
              </a:rPr>
              <a:t>Kanban compa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46483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or Inten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Build Qua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2819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ly No Min Stock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342900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ning/Scheduling Dr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erial &amp; Labo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L-3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Material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P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afety Stock / Drop 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57200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ea typeface="Arial"/>
                <a:hlinkClick r:id="rId1"/>
              </a:rPr>
              <a:t>Increasing Amount of Unplann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   and Unscheduled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Build Qua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2819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ea typeface="Arial"/>
                <a:hlinkClick r:id="rId1"/>
              </a:rPr>
              <a:t>Planning Determines 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429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city Levels Vary Hou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L-3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Material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P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ty Stock / Drop 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0292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dle Mach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41148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hine Controller Types V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e Newer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grate from History to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lcome Inno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State of 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4800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arch Before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mental Steps Can Lessen I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60199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easure Often to Check Progr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342900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487692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 Costs to Remain Compet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direct as well as indire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 only what i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5410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ize warehou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ize produ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3962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ion Floor Lay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ing Setup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veling of Capacity Lo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5715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ing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54100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s what gets built and w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izes produ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lanning and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 Whitn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5410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nry F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6019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yota Motor Corp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4267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stic, often second n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876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 product, right place, right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5486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ize produ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60958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minate Wa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unctiona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5410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al 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ment Buy-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d Inven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5410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d 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Support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5:41:10Z</dcterms:created>
  <dc:creator>lewimt</dc:creator>
  <dc:description/>
  <dc:language>en-US</dc:language>
  <cp:lastModifiedBy>LewisMT</cp:lastModifiedBy>
  <dcterms:modified xsi:type="dcterms:W3CDTF">2004-04-12T14:02:40Z</dcterms:modified>
  <cp:revision>9</cp:revision>
  <dc:subject/>
  <dc:title>Just In Time</dc:title>
</cp:coreProperties>
</file>