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12E0C-BE5D-469F-91C7-22A82B3F3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97A0C-F1CA-4B84-AABE-A12EC8C59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802F-A520-47F1-8421-AE20AFD244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46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560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46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560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F1D7D-99EE-4404-B36B-697939339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170FC-696F-4AD4-88F7-D12CCFA321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46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60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0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46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60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303FA-4688-4240-A9F7-BFF3F24F5A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1D890-2195-4668-875B-EA1A9440C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19895-4CFA-458A-985C-C5043C8110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A0BFA-C213-4A32-8255-785324822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4E60-D431-4EA3-8E02-9A67A5D627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2AD3D-37E9-494E-9150-A222DD12D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66512-8DA0-44F7-B2AB-7C9243A6A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616680" indent="-237240">
              <a:spcBef>
                <a:spcPts val="195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948600" indent="-18972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3" marL="1328040" indent="-189720">
              <a:spcBef>
                <a:spcPts val="195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4" marL="1707480" indent="-189720">
              <a:spcBef>
                <a:spcPts val="1950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5" marL="1707480" indent="-189720">
              <a:spcBef>
                <a:spcPts val="1950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6" marL="1707480" indent="-189720">
              <a:spcBef>
                <a:spcPts val="1950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2715-07B7-4B2F-B071-7D98C390C399}" type="slidenum">
              <a:rPr b="0" lang="en-US" sz="14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Marketing de um site Web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omo aumentar o tráfego qualificado no site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Escolha do nome do site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olocação destacada nos sites de pesquisa: (até um 70% do tráfego)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rie ou alugue listas de e-mails qualificado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Peça, troque ou compre links de sites concorrido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Faça marketing off-line por todas as vias possívei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B8CA-5E0D-4D21-888D-28EC92B4A6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Criptografia de chave simétrica</a:t>
            </a:r>
            <a:br>
              <a:rPr sz="3400"/>
            </a:b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Mais simples, utiliza uma única chave para criptografar e recuperar os dados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É rápido desde o ponto de vista computacional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O nível de segurança depende do tamanho da chave até um limite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Grande problema: gerenciamento da chave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Padrão DES (utilizado nos órgãos do governo dos EUA) chave simétrica de 56 bits, mas na prática são utilizados apenas 40 bits. Já foi quebrad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E63B4-1C59-456F-B328-9B6BDB9A69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Criptografia de chave pública</a:t>
            </a:r>
            <a:br>
              <a:rPr sz="3400"/>
            </a:b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Utiliza duas chaves: a pública e a privada, cada uma a inversa da outra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álculo complexo: chega a ser até 1000 vezes mais lento que o sistema anterior e precisa de chaves até 10 vezes maiore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Uso combinado: sistema de chave pública para estabelecer uma comunicação segura e só então trocar a chave de algum sistema de chave simétrica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O algoritmo de chave pública mais conhecido é o RSA (Rives-Shamir-Adleman, 1977) com chaves de 512, 1024 e 2048 bit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0315-5368-406B-B782-7336CDE123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Quebra por força bruta.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200240"/>
            <a:ext cx="8381880" cy="4438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47400" y="5698080"/>
            <a:ext cx="474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ASIC: Application Specific IC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PGA: Field-programmable Gate Array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43619-D8AB-4944-A020-502B186283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Certificados Digitais (CDs)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Necessidade de identificaçã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Baseados na criptografia de chave pública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Os CDs podem ser usados em quatro áreas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estabelecer conexões Web seguras (SSL 3.0 ou HTTPS;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autenticação de clientes Web;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assinar e criptografar e-mail;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publicar software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13B3A-1891-4295-8BFD-A18C404D6B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Certificados Digitais (CDs) (Cont.)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São emitidos pelas autoridades certificadoras, ligação entre a chave (um número) e uma entidade (pessoa, organização, conta, equipamento, etc.).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Qualquer organização pode ser uma autoridade certificadora. Mais difícil é encontrar clientes que a levem a serio. Ex: Verisign, Thawte, etc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CDs mais comuns: certificados de assinaturas (contêm informações básicas (nome, organização, local, e-mail, etc.), a chave pública e a assinatura digital).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Outro tipo comum de CD: de intercâmbio de chaves que é utilizado para criptografar os dados a serem enviados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B3BC-94AC-48CF-A47E-60E6BBF813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Secure Socket Layer SSL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Protocolo de segurança mais utilizado na Internet (Netscape Navigator 1.0 e MS IE 3.0)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riptografa os dados na pilha TCP/IP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Garante a segurança durante a sessão de comunicações navegador-servidor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Estabelecendo comunicação segura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971280" indent="-194040">
              <a:lnSpc>
                <a:spcPct val="95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protocolo de handshak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971280" indent="-194040">
              <a:lnSpc>
                <a:spcPct val="95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intercâmbio de CD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291600" indent="0">
              <a:lnSpc>
                <a:spcPct val="4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Perigos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Solução SSL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91600" indent="0">
              <a:lnSpc>
                <a:spcPct val="4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Confidenciabilidade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-&gt;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Criptografi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91600" indent="0">
              <a:lnSpc>
                <a:spcPct val="4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Manipulação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-&gt;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Integridade dos dados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91600" indent="0">
              <a:lnSpc>
                <a:spcPct val="4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Falsa identidade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-&gt;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Certificado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1924-D279-48DA-8576-62386C8CC3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Secure Electronic Transaction SET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8153280" cy="4187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626200" y="1218960"/>
            <a:ext cx="269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(www.setco.org)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A13A9-3257-405E-88D5-A5FFE70990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Tendências na padronização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75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Extensible Markup Language XML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08520" indent="-308520">
              <a:spcBef>
                <a:spcPts val="975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Electronic Commerce Modeling Language</a:t>
            </a: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 ECML (</a:t>
            </a: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www.ecml.org</a:t>
            </a: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): carteira eletrônica com formato universal, lançada por grandes companhias. Em conjunto com SSL e SET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Electronic Commerce and Consumer Protection Group: coalizão de grandes companhias para estabelecer um ambiente legal mundial “estável e previsível”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08520" indent="-308520">
              <a:spcBef>
                <a:spcPts val="975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www.bolero.net - Sistema de importação e exportação pela Internet permite que empresas façam negócios internacionais de forma padronizada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52497-74BE-4F31-A5F6-5F46C7E0A1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Linux e E-commerce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Solução in-house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Custo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Desempenho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Estabilidade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Flexibilidade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Ferramentas existentes: BD (MySQL, </a:t>
            </a: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PostgreSQL</a:t>
            </a: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), SSL, PERL, etc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Suporte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BBDD6-D19C-4646-85CC-6F0CBA76CA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Linux e E-commerce (Cont.)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Solução prontas: MiniVend (</a:t>
            </a: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www.minivend.com</a:t>
            </a: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)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Sistema completo de comércio eletrônico (catálogo eletrónico com sistema de vendas) </a:t>
            </a:r>
            <a:r>
              <a:rPr b="1" lang="pt-BR" sz="2600" spc="-1" strike="noStrike">
                <a:solidFill>
                  <a:srgbClr val="4d4d4d"/>
                </a:solidFill>
                <a:latin typeface="Verdana"/>
              </a:rPr>
              <a:t>gratuito</a:t>
            </a: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 (GNU)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Trabalha em Unix, Windows 95, 98, NT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rocessamento online de cartões de crédito com  CyberCash, Authorize.Net, e PaymentNet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egurança com SSL e PGP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Ampla conectividade com BD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FCCF7-6809-4DAF-A4FD-E3EC9D87C3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Marketing de um site Web (Cont.)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30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Notas jornalísticas para anunciar seu site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30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Troque ou compre banners em outro sites (curta duração)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Pague comissão aos afiliados que mandam cliente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Marketing cuidadoso em salas de chat, newsgroups e listas de discussão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Seja o patrocinador de sites com tráfic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Não faça spam!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28CCB-67B0-4DCB-B314-F58CB177C1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Intershop (</a:t>
            </a:r>
            <a:r>
              <a:rPr b="0" lang="pt-BR" sz="3000" spc="-1" strike="noStrike">
                <a:solidFill>
                  <a:srgbClr val="4d4d4d"/>
                </a:solidFill>
                <a:latin typeface="Verdana"/>
              </a:rPr>
              <a:t>www.intershop.com</a:t>
            </a: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)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istema completo para a criação de lojas virtuais massiva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975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Integração com os sistemas de gerenciamento empresarial existente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975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Facilidades de administração (para o Commerce Service Provider CSP e para o comerciante, conceito de ePage), Store Design Wizard, ajuda em contexto com busca total, gerenciamento de comunidades,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AE242-451D-465A-AB1F-88A9D229C8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Posição nos sistemas de pesquisa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Alguns fatos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Mais de 95% dos usuários da Web encontram informação partindo dos 6 principais sistemas de pesquisa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Yahoo teve ~40 milhões de visitantes únicos em agosto de 1999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As pessoas raras vezes conferem a partir dos primeiros 30 itens encontrados na pesquisa (90% do tráfego).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22431-B506-426B-A73A-7DFFEAF22A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Cont.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Utilizar páginas pontes (ou "doorway")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Utilize sites especializados no cadastro em sistemas de pesquisa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aracterísticas das páginas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Utilize um &lt;TITLE&gt; o mais descritivo possível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Inclua uma descrição do site bem no começo da página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Utilize tags &lt;META&gt;, exemplo: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Ex:     &lt;META name="keywords" content="HTML, programação, Web design"&gt;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0DEEF-36EF-4E3E-ADCF-9C923C8BAB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Segurança na Web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82% dos problemas de segurança teve origem nos próprios quadros das empresas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ausadores de problemas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Empregados Autorizados - 58%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Empregados não-autorizados - 24%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Ex-empregados - 13%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Hackers, terroristas - 3%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Concorrentes - 3%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(Fonte: PricewaterhouseCoopers e InformationWeek)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A956A-DBC8-45A9-B982-B16EC7CC59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Segurança (Cont.)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Requerimentos de Segurança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Confidenciabilidade: Proteção contra pessoas não autorizadas.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Integridade: Manter a consistência dos dados.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Autenticação: Garantia da identidade da pessoa que cria os dados.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Não repudio:  O criador dos dados pode ser identificado como tal.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BDB6A-6173-4877-AB57-5EBE61E618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Segurança (Cont.)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meaças à segurança: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vazamento de informações,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violação da integridade,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troca de identidade,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negação de serviço,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uso ilegítimo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 maior parte dos problemas de segurança na Internet são do tipo controle de acesso e de autenticaçã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EC56B-7A65-4D33-A95A-C11AB036FB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Segurança (Cont.)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O elemento cultural: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política de controle de acesso à informação,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cultura de gerenciamento de informação confidencia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=&gt; Uma forma eficiente de atacar a segurança de um sistema é começar com o teste dos usuários pouco cuidadosos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Programas grandes (um servidor Web) contêm erros. =&gt; manter-se atualizado sobre os upgrades existentes para o seu sistema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0FA0-781A-4AF9-8491-1C2B8E8CBA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Criptografia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Duas grandes categorias de algoritmo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4d4d4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criptografia de chave simétric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4d4d4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criptografia de chave pública (assimétrica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A9C29-181B-4716-AE9F-EAFF030824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01:37:13Z</dcterms:created>
  <dc:creator>Reinaldo Pérez Sánchez</dc:creator>
  <dc:description/>
  <dc:language>en-US</dc:language>
  <cp:lastModifiedBy>Reinaldo Pérez Sánchez</cp:lastModifiedBy>
  <dcterms:modified xsi:type="dcterms:W3CDTF">1999-09-28T16:59:38Z</dcterms:modified>
  <cp:revision>50</cp:revision>
  <dc:subject/>
  <dc:title>Marketing, Segurança e Exemplos</dc:title>
</cp:coreProperties>
</file>