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69F-C83D-4812-8A6B-E65870C5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122-7DBB-46E7-B013-38E7918E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053-9384-4BCF-AB6E-1203EDFD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B30-FE52-423B-8A10-B07C3D3C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C85C-C850-4E95-B0CF-7167F7C3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BE04-6CCD-42D5-88B4-1ECCC4CB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B3BC-9D71-4C60-ADDF-2FB3D5BB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F794-186E-463E-A293-D33407AC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41F2-89E2-42BE-95D4-257448FA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4AA1-1F6C-4E8F-849F-B5AB1BFC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83B3-5CE1-4AF6-9A54-03414A8C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577-FF01-48CB-AC52-6E08A1AE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CCB1-12FE-408D-B9A1-67D5A530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3962-5BA9-484B-8A0E-A2CD6323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926C-843E-44F1-9EA9-DD4A484B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092C-1BC2-4B77-8A84-6125A001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4850-409E-4321-8E78-3659139E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51D-D808-4CBE-92A3-AFDD2D82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0E9-304F-482D-917C-A5004964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C4E-0D06-45BC-B71C-7CA7DBB3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A40-2126-4885-89BB-32D3E2E4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35F-FDB2-4881-BE22-AB7AAC47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94D-AB6A-4084-A0EE-BD0B481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D1D-FBB3-407E-89A8-F6628ADE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4040"/>
                <a:ext cx="161640" cy="2937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2440" y="4562640"/>
                <a:ext cx="55440" cy="110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7840" y="4366800"/>
                <a:ext cx="55440" cy="111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C852-4E46-4FAE-810D-9F60F2D5F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2920"/>
                  <a:ext cx="225360" cy="407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2880" y="385920"/>
                  <a:ext cx="7776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6440" y="114480"/>
                  <a:ext cx="7776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558F-B1FC-438D-9A58-55861025D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ERNET, INTRANET E EXTRANET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ÉRCIO ELETRÔNICO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cyone Augusto da Silva, Ph.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SP/H&amp;R Associ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nternet e o Comércio Eletrô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 que fazer negócios na Interne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efícios potenciais para o cliente e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ção no preço da mercadoria (promoção e descont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ção no tempo de aquisição da mercadoria desej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mento da competição entre as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mento de clientes 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mento de visitas a empresa (loja) no dia a 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gerenciamento da inform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controle de esto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ácil acesso aos produtos de interes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efícios para o fornec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identificação do público-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definição do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gerenciamento cash-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amento na eficiência de op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icipação no processo de compra do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amento nos processos pagamento/receb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dade de comunicação entre fornecedor e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dade de suporte on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Q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ípio Bá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Vender bits é muito mais fácil do que vender átomo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stões de Segu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 Competitividade entre as maiores empresas do mercado da Web  tem trazido novas tecnologias para aumentar a segurança no comércio eletrônic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 seleção do browser é fundamental na questão de segurança (SSL - Secure Sockets Layer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O Protocolo SE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Novas tecnologias usando Inteligência Artificial vem sendo testadas para serem usadas na Web (impressão digital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0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ributos do Comércio Eletrônico via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biqüidade (documentação eletrônica virtual em qualquer lugar e em qualquer temp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ações sem dinheiro vivo (dinheiro digital/cart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or diferenciador entre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oção de protocolos de comunicação comuns (TCP/IP -Transmission Control Protocol/Internet Protocol e HTTP) e uso de softwares padrões (browsers e servidores We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s reduzidos de implementação e manute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la direta, marketing, transmissão de dados, redução de ligações telefônicas/fax, materiais de consumo, logística etc.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e custos administ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no tempo para completar as transações comerci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dências Futuras do Comércio Eletrô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scimento contínuo paralelo a evolução da segurança nas transações via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os riscos nesta a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aques internacionais (Hackers e/ou competido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lhas de transmissão de d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lhas de autenti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lhor aceitação do uso do cartão de cré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o Smart Card (Cartões de crédito com processador on-board e memór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ção da Internet com  técnicas avançadas em uso nas atividades comerciais (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evolução da tecnologia Internet é constante e oferece promissoras oportunidades para as atividades de comércio virtu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nternet se constitui na porta de entrada para o comércio sem frontei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squis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78" name="10ecom1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597120" cy="4114800"/>
          </a:xfrm>
          <a:prstGeom prst="rect">
            <a:avLst/>
          </a:prstGeom>
          <a:ln w="0">
            <a:noFill/>
          </a:ln>
        </p:spPr>
      </p:pic>
      <p:pic>
        <p:nvPicPr>
          <p:cNvPr id="179" name="10ecom2" descr=""/>
          <p:cNvPicPr/>
          <p:nvPr/>
        </p:nvPicPr>
        <p:blipFill>
          <a:blip r:embed="rId3"/>
          <a:stretch/>
        </p:blipFill>
        <p:spPr>
          <a:xfrm>
            <a:off x="4737240" y="1676520"/>
            <a:ext cx="2841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squis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81" name="10ecom3" descr=""/>
          <p:cNvPicPr/>
          <p:nvPr/>
        </p:nvPicPr>
        <p:blipFill>
          <a:blip r:embed="rId2"/>
          <a:stretch/>
        </p:blipFill>
        <p:spPr>
          <a:xfrm>
            <a:off x="304920" y="1701720"/>
            <a:ext cx="4267080" cy="4062600"/>
          </a:xfrm>
          <a:prstGeom prst="rect">
            <a:avLst/>
          </a:prstGeom>
          <a:ln w="0">
            <a:noFill/>
          </a:ln>
        </p:spPr>
      </p:pic>
      <p:pic>
        <p:nvPicPr>
          <p:cNvPr id="182" name="10ecom4" descr=""/>
          <p:cNvPicPr/>
          <p:nvPr/>
        </p:nvPicPr>
        <p:blipFill>
          <a:blip r:embed="rId3"/>
          <a:stretch/>
        </p:blipFill>
        <p:spPr>
          <a:xfrm>
            <a:off x="4648320" y="1657440"/>
            <a:ext cx="41907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voluç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1360" y="1682280"/>
            <a:ext cx="7721280" cy="40640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          Intranet             Extr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1990              1996                  19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3657600"/>
            <a:ext cx="6856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430440"/>
            <a:ext cx="0" cy="227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3430440"/>
            <a:ext cx="0" cy="227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99"/>
                </a:solidFill>
                <a:latin typeface="Times New Roman"/>
              </a:rPr>
              <a:t>Pesquis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84" name="10ecom5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3962160" cy="4114800"/>
          </a:xfrm>
          <a:prstGeom prst="rect">
            <a:avLst/>
          </a:prstGeom>
          <a:ln w="0">
            <a:noFill/>
          </a:ln>
        </p:spPr>
      </p:pic>
      <p:pic>
        <p:nvPicPr>
          <p:cNvPr id="185" name="10ecom6" descr=""/>
          <p:cNvPicPr/>
          <p:nvPr/>
        </p:nvPicPr>
        <p:blipFill>
          <a:blip r:embed="rId3"/>
          <a:stretch/>
        </p:blipFill>
        <p:spPr>
          <a:xfrm>
            <a:off x="4876920" y="1657440"/>
            <a:ext cx="39621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que é a Intranet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uma rede projetada para o processamento de informações dentro de uma empresa ou organizaçã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canismo de integração das pessoas, processamento e disseminação da informação dentro de um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que difere Internet/Intranet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é uma rede pública, global e amplamente aberta para qualquer pessoa que tem uma conexão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Intranet é restrita as pessoas que estão conectadas em uma rede privada de um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Intranet utiliza aplicações associadas a Internet tal como: Páginas Web, browsers, FTP, e-mail e newsgroup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acterísticas princip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85680" y="2365200"/>
          <a:ext cx="6532560" cy="4051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5680" y="2365200"/>
                    <a:ext cx="653256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 que as empresas estão adotando a Intra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Intranet oferece o meio de se trocar informações através da rede de computadores da empre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Intranet elimina os contratempos de distribuição de cópias de documentos internos (manuais, instruções, seminários, lista de preços, boletins informativos,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rásticas de custos com material de consumo (papel, xerox,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I é garant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or da Intranet nas atividades comerci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mento da competi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oca de conheci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ácil publi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as oportunidades de negó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acesso a informação intern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ansão de ve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io rápido para acessar as informações necessários para as v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ectar clientes com os sistema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exões para 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onibilidade on-line de catálogos e dados importa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2" marL="1074240" indent="-214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e cu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ção drásticas em softwares e distribuição de papé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sso rápidos as inform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mento da produ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einamento (novos e antigos empregad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oca dinâmica de informações de trabal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orte aos grupos de trabalh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rmações úteis sempre disponíveis (relatóri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orte ao 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o pôr operadores de suporte (via telefo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rmações on-line a serem oferecidas aos clien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sso controlado a rede pelo o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sucesso de uma Intranet depen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hecimento do ROI a ser obtido pelo uso da In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u de conhecimento da ferramenta pela Diretoria d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inamento dos funcionários para uso da ferram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orte do sistema de acordo com as necessidades e cres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ualização das informações (estímulos as publicações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sso a Internet/Intr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ção Internet/Intranet varia de empresa par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mpresas que usam somente a Intrane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mpresas que usam o acesso a Internet e a Intrane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essoas fora da empresa não podem ver a Intranet (firewall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bos sistemas requerem uma rede TCP/IP (Transmission Control Protocol/Internet Protocol) para promover o tráfego de inform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esso externo controlado pôr mecanismos de segurança (firewal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 Intranet promete uma mudança fundamental na forma de comunicação entre os empregados de uma empresa num grau não experimentado desde a invenção do telefon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tranet: Slashing the Cost of Business - Ian Campbe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elatório de análise de ROI de Intranet corporativ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plicações Gerai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ientíf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ducacion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erc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tilidade Pú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 surgimento da Extranet é uma conseqüência natural da evolução das atividades geradas pela Internet e Intranet, principalmente no comércio eletrôn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que é uma Extra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mundo dos negócios (cara-a-cara) você convida o cliente e parceiros a entrar em sua empresa sem necessariamente lhes dar as chaves do seu escritó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anet oferece a mesma oportunidade de abrir ao externo as informações e sistema de sua Intranet sem dar acesso a dados e informações confidenciais de su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que reside o sucesso da Extra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integrado com as tecnologias de  autenticação e criptograf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a Virtual Private Network (VPN) para estabelecer a conexão entre os membros da Ex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á apoiada nas conhecidas tecnologias: a Web, a Internet, aplicações groupware e firew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pendência de plataformas específicas em uso pelas empresas membro da Extra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o protocolo TCP/IP, browser e servidor We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a de tempo e dinheiro no atendimento aos cli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ções da Extr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sgroup privado no qual a empresas associadas pode realizar troca de idéias e experiê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pware no qual as empresas associadas podem desenvolver produtos em conjunto que todas podem u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as de trein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oca de catálogos de produtos entre as empresas associ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renciamento e controle do andamentos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endimento rápido e eficiente aos clientes a qualquer mo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idados import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üência de acesso as inform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áter de sigilo das inform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I (benefícios e vantage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il do membro da Ex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nibilidade de investimentos e su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idados na segu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locidade de linhas telefô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or humano (habilidades a novas tecnologi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VISÃO FUTURA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ção da Internet/Intranet/Extranet com tecnologias avançadas que aumentem a dinâmica do comércio eletrônico. Podemos citar os  Sistemas Inteligen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eração de dados (Data Min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es Neu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stemas Especia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ógica Dif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VISÃO FUTUR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ção eficaz para os problemas de segurança na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ação de sistemas de reconhecimentos de impressões digitais (&lt; US$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rt Cards nas transações comerciais (Em amplo uso na Europ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colo S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ternet, Intranet e Extranet são tecnologias que ainda possuem um amplo campo para serem aplicadas no Brasil, principalmente no que diz respeito ao comércio eletrô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nsformações Significativa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o da alta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seminação de Conhec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un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rcialização (comércio glob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aganda e Mark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ssional (adaptação e novas profissõ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nológica (desenvolvimento e integração de novas tecnologi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statísticas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COMDEX/CANADA- Jul98)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ários  : 1997 -----60 m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0 -----132 m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ações comerciais on-l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7 -----US$9 b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2 -----US$327 b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FUNDAMENTA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gu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sidade Cul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bitos do Consumidor/Internau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que é Internet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ata-se de uma fonte global de recursos gerada pôr conexões físicas entre milhares redes privad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Internet é o espaço virtual, mundo virtual ou “cyberspace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orld Wide Web (WW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parte da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uma via virtual de informações super-ráp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um grupo de documentos, dados ou multimídia armazenados numa rede (A Internet) que pode ser acessado de forma remota através de “hyperlink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esso da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utralidade de plataform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ponibilidade globa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tribuição automática de softwa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ácil mecanismo de distribuir e/ou receber informaçõ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 número de usuários para se dar suporte  pode ser ilimita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senvolvimento rápido da tecnologia de comunicaçã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OI é automát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Ipen</dc:creator>
  <dc:description/>
  <dc:language>en-US</dc:language>
  <cp:lastModifiedBy>Reinaldo Pérez Sánchez</cp:lastModifiedBy>
  <dcterms:modified xsi:type="dcterms:W3CDTF">1999-08-23T20:19:25Z</dcterms:modified>
  <cp:revision>27</cp:revision>
  <dc:subject/>
  <dc:title>AS TRES ONDAS: INTERNET, INTRANET E EXTRANET</dc:title>
</cp:coreProperties>
</file>