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690-CC06-41A1-B002-B9E89597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5DC-C4DB-412E-86A9-D11D82C4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37F-5C47-41A6-A5DE-8880B3EB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977-6446-4656-B4F0-B54E9423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A03F-515F-4444-BB46-1039AC97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C60C-54EC-44DC-9006-BA93542B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A96A-8A12-47F6-9861-ECE91104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09F-66B7-4B6C-B637-DED18D8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17C-809B-421D-9793-F6CD57F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B187-6B0D-437B-BE5F-91B8F32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187-3C04-4F3D-A760-C143A60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A9A-899D-4E3D-9298-7806B8F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DAF-1590-4626-BA2F-9F406DB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CF80-5490-43F2-8A5C-BD32850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CED-725D-4953-8A7F-9EE1544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439-EDBF-4B63-89CC-04DA7DE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6DF0-0A08-4C51-A4DD-0CABDEEC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ABE-5B0A-410F-ADE3-5A58CF8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D3A-58BB-4064-8F00-37F9C30E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426-13B6-4D6A-9AED-1DAE21E7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2F7-916F-4327-A68E-E54A646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1A8-8F5A-49F7-9AA9-AD05EB2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C2B-A3BE-400E-8ECB-059291C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86E-B034-4B1D-8A08-88BD73C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684-F24B-4240-99DC-3DEE6D0FF27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A15D-4588-40A6-96ED-227C27F40B7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 com a organização da informação na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ferramentas de pesquisa Internet procuram recursos que contêm certas palavras chaves que você forne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o de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 gratui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AC6-BBD9-4705-A8F3-7AFDF99147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Yahoo!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yahoo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retório de +200000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do pelo cadastro de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usar e bem organi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r pela hierarquia de serviços, subcategorias e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E7C-D07E-4698-B54C-C89ED624A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os sistem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é?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www.cade.com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ner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taMiner, BookMiner, NewsMiner, SoftMiner, CDMiner, CopaMiner.                          (www.miner.dcc.ufmg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nde Achar: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ww.ondeachar.com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necedores de conteú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9F0-AAD8-4466-9A77-7CCCB8AC17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lher a ferramen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0AF-026A-44B7-9512-FC91108C5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ebendo a informação em ca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Pu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intCast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nais Microsoft e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DE1-7E21-46AC-8D58-4AD00F0A60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é inerentemente insegura: dados trafegando por ro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a situação não é exclusiva d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lu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ptografia de chave pú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inatura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rtificado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BED-AFFD-41FC-B185-A695AFC5CE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iscos de segurança ao enviar 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escu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manipulando a inform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alsa ident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ris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ír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terial não-desejado (para crianç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ok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73B-D6D4-4EA1-968B-FC16E74299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gando a conta n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-cash ou Cyber-coins: wallet eletrôn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pagamentos, chaves +768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ure Electronic Transaction (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abilidade do pagamento e do ped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gridade dos dados transmit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belecer identidade do dono do car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e Socket Layer (SSL):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tes seguros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s://  &amp; cade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8B3-D7BA-4560-8CA8-87D13AB59D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a dois tipos de ferramentas de pesquis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Índice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retório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binados com 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térios de sele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reensão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guração d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evância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C9D-66CB-4988-9C82-509DDCA0E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Índice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 três par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obot (ou spider, ou worm, ou crawl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ex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tor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Altav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62F-A606-4676-8527-2A54B0FF2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retório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varrem a Internet procurando páginas Web: os usuários registram suas pág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resultado pode ser igual àquele dos índices de pesqu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595-8CE0-4F27-98C3-42EAF12825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écnic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ja específ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use palavras com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renda a ajustar su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variações de palav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sinôn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frases entre asp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maiúsculas se desej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enda a ferramenta que está us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03A-A6AF-4604-B78B-8F22CB4DE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binando palav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: AND, NEAR, OR,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net AND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anet NEAR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guar NOT car NOT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cluindo ou omitindo: +,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+Tutorial + HTML -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urar índices do assu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CE5-C56A-414C-A7AB-3B2708C38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ltavista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altavista.digital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de de +3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simples e avanç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ultado: Link com primeiras frases da pág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inamento de uma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dução de páginas encontr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E25-FD40-489D-A615-8DB3210E44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cite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excite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e catálogo editorial (+60000 sit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por exemp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versos serviços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People Finder, E-mail Lookup, Yellow Pages, Maps, Stock Quotes, Book Flights, Newsgroup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A1-BF42-4FF4-9749-A5B249E66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foseek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infoseek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 +5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ierarquia de catego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torna resultados altamente relev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tem pesquisa booleana, mas encadeia pesqui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variantes de palav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862-896E-420E-98EE-C31EA3DD2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27T18:32:18Z</cp:lastPrinted>
  <dcterms:modified xsi:type="dcterms:W3CDTF">1999-09-15T18:07:50Z</dcterms:modified>
  <cp:revision>69</cp:revision>
  <dc:subject/>
  <dc:title>CURSO INTERNET, INTRANET.</dc:title>
</cp:coreProperties>
</file>