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0C0-BD21-4D28-8FA4-458CAB8D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729-2401-48B1-8B97-B468934D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5A2-ED0B-42A5-8C6E-A7F1C4CE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0D7-9A2F-4F50-B97D-C36F5EA7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A32A-384E-4DB6-BDDA-97ED495C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CF8F-0675-477E-9126-E90C2745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0FD0-47E5-4FD4-8590-9D678525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50DE-ADF6-4979-A8A4-FCA6B059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6810-AAC2-433D-AAF2-4FDF20E6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FCE6-6271-4BA0-A7A4-0796A43A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2D74-220D-4636-9C9E-E57810E3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F8E-FE60-4299-B259-98D36832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07C2-D82A-4661-A4B2-BBBD1493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D954-2231-4923-9138-1C193F9A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0EBC-795A-40B9-9109-35F67CF0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E070-E028-4C58-BE2B-4DF3FE58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C236-E30B-4935-995E-DE61C4D0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B96-9689-481D-BF86-8CF77447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6E46-7140-4E38-BF77-4CF79664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DD7-E9E5-4CDF-883A-D62A893C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5AC-11BD-4008-8F4C-3886156F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66F-0E76-492C-B86E-2C34A4EB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42E8-BDE8-4192-BC31-43E7C8B0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820-69E2-4B20-9AA3-27E1BAE5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E8CD-047B-4745-A113-6298DE72D74B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5A3E-CFB9-46B0-8ED4-1AC4160D541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76320" y="76320"/>
            <a:ext cx="3124080" cy="609480"/>
            <a:chOff x="76320" y="76320"/>
            <a:chExt cx="3124080" cy="609480"/>
          </a:xfrm>
        </p:grpSpPr>
        <p:graphicFrame>
          <p:nvGraphicFramePr>
            <p:cNvPr id="34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" name=""/>
            <p:cNvSpPr/>
            <p:nvPr/>
          </p:nvSpPr>
          <p:spPr>
            <a:xfrm>
              <a:off x="533520" y="152280"/>
              <a:ext cx="2666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3CF0-80DB-499E-842B-D860DBF301C1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B1DF-5C0C-4445-883B-2A2517A9346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320" y="76320"/>
            <a:ext cx="2895480" cy="609480"/>
            <a:chOff x="76320" y="76320"/>
            <a:chExt cx="2895480" cy="609480"/>
          </a:xfrm>
        </p:grpSpPr>
        <p:graphicFrame>
          <p:nvGraphicFramePr>
            <p:cNvPr id="109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533520" y="152640"/>
              <a:ext cx="2438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chilecompras.cl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amitefacil.gob.cl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Gobierno Electrónic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yecto de Reforma y Modernización del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sterio Secretaría General de la Presid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C4B3-025C-4986-AE6E-BD6893A4254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488FE33-F42F-4CFA-93E2-17A356E2B43F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Buen Gobier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iseño y simplificación de procesos apoyados por las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gramas continuos de enseñanza y entr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sponer de sistemas de información que apoyen funciones internas. Permitir, facilitar y promover comunicaciones mediante uso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servicios a otras reparticiones. Conexión y utilización de red del Ministerio del In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roducir indicador de gestión de porcentaje de trámites brindados electrónica y presencial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cluir impacto en la organización producido por el desarrollo de los proyectos que usen NTICs. Enfasis en impacto en funcion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ción de estándares de la industria NTICs. Imagén común en Internet, uso progresivo de .gov.cl y .gob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gregación de demanda para conseguir eficiencia en recursos financieros. Contratación conjunta de desarrollo de proy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7B8-9B4E-43B9-9944-20D6DF6D788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02C07-5857-4F74-8508-DF618837EF31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sarrollo de la Democracia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tar medidas para facilitar a la ciudadanía información pertinente, la consideración de sus opiniones y sugerencias, e instancias de participación ciudadana y la transpa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ar páginas web informativas de fácil acceso y comprensivas, vinculando esta información a portales de búsqueda generales, tanto públicos como priv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retaría General de Gobierno velará por estándares de contenido de las páginas web de los diversos Servicios y Ministerios, asegurando el acceso a los ciudadanos a la información general y específica sobre la acción del Gobi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329C-D0C0-4672-B84D-E2D59B3AF47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C9C73-276E-4826-818E-3A3151B1FCAA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- Generales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guimiento y Coordinación del cumplimiento de las instrucciones en SEGPRES a cargo del PR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neración de antecedentes de inversión y gasto anuales en NTICs, a cargo de la Dirección de Presupue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n que señale cómo se aplicará Instructivo en los Servicios, a cargo de cada Jefe de Servicio. Agosto próx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F43A-4615-48A3-8453-CD67B4156A5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6C827-5F39-49E1-8C90-5B02F8A6BDE7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Trámites en lín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Trám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Gobiernode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mpuesto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Adua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Tesorer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o Civ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on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hileComp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RN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B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Vivi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Edu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Obras Públ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ción Vi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per Isap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pre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.Mov.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te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715000"/>
            <a:ext cx="792504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tranet del Estado ( Min. Interior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081-507E-4475-B5D9-F9281C4765C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A8EA2-3675-4B11-BD6E-5EC7283501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mentos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ra el Gobierno Electróni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6B41-1FA6-4557-B0DB-E0BF404A9DB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299F4BD-B6CA-4F38-8E2C-198110648055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Legales y Administrativ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Firma Digital, presentado en Agosto 2000 y aprobado por unanimidad en la Cámara de Diput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Dirección de Compras Públicas, se firmó indicación sustitutiva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tivo Presidencial de Gobierno Electrónico, suscrito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81 – 1999 de la SEGPRES, que regula el uso de la firma digital en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1.312 – 1999, establece sistema de información compras y contrataciones públicas – </a:t>
            </a:r>
            <a:r>
              <a:rPr b="0" lang="es-CL" sz="20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www.chilecompras.c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.S. 54 –2001 que permite la suscripción de acuerdos mar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MG 2001, obligación de incorporación de parte los Servicios al Sistema de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E81-660A-4D90-9BDC-231D6EB9650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55921-023C-4D70-80EA-1173694D15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Fomen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sionamiento de Infraestructura Tecnológica: se ha evaluado técnica y jurídicamente la factibilidad de concesionar Ventanillas Unicas, bajo el marco de Concesionamiento del Ministerio de Obras Públ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trocinio a eventos de empresas tecnológicas privadas orientados a mostrar soluciones a Instituciones Públicas – Oracle, elvoucher.com, ACT, empatia, Metrodigital, separende.com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E48-F46A-46D3-ABC7-8D61B10AECB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8B44F-29EA-4D16-A9A4-1446DD4DE2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ortal del Trámit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es-ES" sz="2000" spc="-1" strike="noStrike" u="sng">
                <a:solidFill>
                  <a:srgbClr val="f98d43"/>
                </a:solidFill>
                <a:uFillTx/>
                <a:latin typeface="Trebuchet MS"/>
                <a:ea typeface="Times New Roman"/>
                <a:hlinkClick r:id="rId2"/>
              </a:rPr>
              <a:t>www.tramitefacil.gob.cl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,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nt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ene la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formación sobre trámites de los Servicios Públicos, con sistemas de búsqueda orientados al usuario. Se inicia con 675 trámites.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cluye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los formularios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igitalizados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ás utilizados en cada Servicio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. Además, considera c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nexión a las transacciones en línea que actualmente tienen los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Ventanilla Únic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u objetivo es realizar en una transacción una colección de trámites en forma electrónica (llamado “requerimiento”), que involucra a más de una repartición pública y puede involucrar a organismos privados, a fin de atender requerimientos de los ciudadanos. Se han identificado y estudiado más de 40 requerimientos y se decidirá prontamente con cuáles comenz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Infraestructura de Acces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han habilitado alrededor de 200 Infocentros -públicos y privados- a lo largo del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DC0-E406-4BFD-9DB8-924649503A1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284A5-3A09-4FDD-BCD0-16366EFD37FD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rograma de Formación de los Recursos Humanos para el Gobierno Electrónic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Fortalecimiento de las Unidades de Gestión Electrónic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Intranet del E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Uso de las TI en IntraEstad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de Información para la Gestión Financiera (SIGF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Nacional de Información Territori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ChileCompr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stión Intern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92C4-7475-4F23-A7D9-F7AC49E369E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5E7D1-76EB-4711-9B71-D66BE360871A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es Gobiernode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áginas web de los Servicio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28600" y="578160"/>
            <a:ext cx="95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arrollo de la Democraci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43D-D71C-4A77-B0D4-DCABB4534B1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CD95C-A20F-4392-B075-2AE40C71196A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 Refor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Proyecto de Reforma y Modernización del Estado es parte del amplio proceso de cambios impulsado por el Presidente Lagos, que incluy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s Polí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l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ación de las Reformas Judicial y Edu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95B-A3E5-48B5-9FD5-9B8F462E75B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6E0EC-39AB-46E9-B25D-E9D08523F5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bjetivo de la Reforma del Estado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El proyecto de Reforma y Modernización del Estado tiene como objetivo generar durante el mandato del Presidente Lagos, un Estado de servicio a los ciudadanos, debiendo contar para ello con una estructura flexible y con una gestión eficiente, participativa y transparen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ios orient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democrático y participativ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transparent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unitario descentralizad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solid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lexible para enfrentar requerimientos presentes y futur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uerte, eficiente y eficaz que asegure calidad de vida y desarroll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ustentab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normativo y subsidi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DA1-D302-4BEC-8EE0-64512C86EB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B71EE-8BE4-4325-899B-B016E4FCBD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8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es del Proyecto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- Reformas Polític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- Rediseño Institucional: áre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Polít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inisterios Coordinadores, Interior, Justi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Económ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Triministerio, regulación, fomento productivo, empresas públicas, institucionalidad agrícola, ciencia y tecnología,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Infraestructu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OPTT y Biministerio Vivienda y Urbanismo y Bienes 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Soci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Institucionalidad Salud, Educación, Asuntos Sociales, Mujer y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- Descentralizació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pectos institucionales y planes regionales de modern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- Modernización de la Gestión Pública y Gobiern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Nuevo Trato y Dirección Púb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lidad de servici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Programa de Trámites, Cartas de Derechos, OIRS, Prem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estión de los servici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Unidad de sistematización de experiencias del sector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obierno Electróni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Buen gobierno, atención a los usuarios y más democra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- Participación ciudadana y Transparencia en la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s institucionales para la participación y Defensor del Ciudada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a de transparencia y prob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3156-1848-4262-9743-1A7F2F38798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C10BA-70FC-41AA-AB55-33FAF50FAA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OBIERNO ELECTRONICO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finición 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o de las Tecnologías de Información y Comunicaciones para mejorar los servicios e información ofrecidos a los ciudadanos, aumentar la eficiencia y la eficacia de la gestión pública e incrementar sustantivamente la transparencia del sector público y la transparencia ciudadan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F17-6921-4B6D-A650-42A2E1BD3BE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70D5F-480B-4A43-89DC-B0DDFE5CA38B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SION ORIENTADO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tención en cualquier oficina de un Servicio autorizado a brindarla. Independencia jurisdiccional y resid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manda de servicios sobre la base de necesidades en lugar de conocimiento de la estructura del Estado: mirada ciudad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o se exigirá presentación de cédula de identidad y de antecedentes que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obren en poder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informarán al Estado sólo una vez que haya cambios relevantes de su situación de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iudadanos son libres para acceder y consultar información de actos público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sistemas de información del Estado deberán estar relacionados entre sí y orientados a atender al ciudad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tienen derecho a conocer y modificar la información que de ellos posee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696-4D3F-4EF0-BD8B-F1DA73E945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D6853-39E7-4CB0-9F45-ACBEEB9B2394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incipios Orientador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ransformad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cación sustantiva de los procedimientos ac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 alcance de to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quién, dónde y cuán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ácil de us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s y senci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yor Benef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ecto a forma pres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guridad, Privacidad y Registr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l del Sector priva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yados en el sector privados mediante procesos competi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oncentr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ción, mantención y actualización de las TI a cargo de los Servicios e interoperabilidad entre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Jurisdicción Electró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ción de los Servicios para que las transacciones puedan ser efectuadas desde cualquier punto del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volutiv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proceso: (1) Presencia; (2) Interacción; (3) Transacción y; (4) Trans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FCF6-0F64-433C-933E-4220BBFBE11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E9387-B9E0-4466-8E95-CE4ADFC8E4FE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Ámbit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Atención al ciudada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uevas formas de relación Gobierno / ciudadano mediante el uso de TI, que permitan al Estado brindar sus servicios en forma más eficiente, eficaz y con independencia del lugar fís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unitario, descentralizado, solidario y flexibl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Buen Gobier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tablecimiento e introducción de nuevas formas y procesos internos en la Administración del Estado que permitan la integración de los sistemas de diferentes Servicios, compartir recursos y el mejoramiento de la gestión interna de los mism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flexible, transparente, unitario, descentral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Desarrollo de la Democraci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reación de mecanismos que, usando TI, permitan al ciudadano jugar un rol activo en el quehacer del país, permitiendo abrir nuevos espacios y formas de particip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más participativo, transparente y democrá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630-3073-4243-9BEC-29FF4BF6648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8A11E-A9D2-4B9D-97D1-EF425DC4AD45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o progresivo e interrelacionado de las N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mentar y promover acceso de los ciudad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tegración entre Serv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ientación hacia Ventanillas Unicas, preferentemente privadas y con estándares de calidad defin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quisitos al desarrollar Ventanillas Un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ción vía cédula de identidad o clave de acceso  basada en en e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torizaciones electrónicas basadas en el nivel de seguridad que aspira o está obligado el ciudad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A2B-25C9-42B0-A0DF-7737F27FAF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17454-443C-4226-B1E8-6FB77E3F95FE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4:53:01Z</dcterms:created>
  <dc:creator>Felipe Goya</dc:creator>
  <dc:description/>
  <dc:language>en-US</dc:language>
  <cp:lastModifiedBy>MRiera</cp:lastModifiedBy>
  <cp:lastPrinted>2001-07-16T20:54:41Z</cp:lastPrinted>
  <dcterms:modified xsi:type="dcterms:W3CDTF">2001-07-24T20:30:32Z</dcterms:modified>
  <cp:revision>158</cp:revision>
  <dc:subject/>
  <dc:title>Proyecto de Reforma y Modernización del Estado</dc:title>
</cp:coreProperties>
</file>