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68349-381D-486F-87D5-64524F2E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11250-3779-4DF0-91E8-2E333BA9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A12A2-628C-40C6-B509-1523E073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EB789-F04E-4796-A724-3DFD5F17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D5D9B-8EEC-47C6-8BA1-DE1FDE09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8D827-616B-4C69-92FF-DDF6CE9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0DA60-3E0B-4873-B9E4-5BEA47B3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D66AC-CF7E-4B42-9BFD-C7864152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706D1-A670-46D6-9A24-C01AFE7A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4C3E3-B44F-4B66-AA0F-E8CE6BB9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9BB09-0A17-4E77-96DA-26BD2A4C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8FDBB-FAA7-4EEE-8B88-9A9F1CEC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8589"/>
                </a:solidFill>
                <a:latin typeface="Futura B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50760" y="6638400"/>
            <a:ext cx="390852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27800" y="0"/>
            <a:ext cx="2716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6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5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399960" y="1044720"/>
            <a:ext cx="8586720" cy="55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633240" indent="-518760">
              <a:spcAft>
                <a:spcPts val="814"/>
              </a:spcAft>
              <a:buClr>
                <a:srgbClr val="6e6f72"/>
              </a:buClr>
              <a:buFont typeface="Futura Bk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1090440" indent="-342720">
              <a:spcAft>
                <a:spcPts val="814"/>
              </a:spcAft>
              <a:buClr>
                <a:srgbClr val="6e6f72"/>
              </a:buClr>
              <a:buFont typeface="Futura Bk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547640" indent="-342720">
              <a:spcAft>
                <a:spcPts val="814"/>
              </a:spcAft>
              <a:buClr>
                <a:srgbClr val="6e6f72"/>
              </a:buClr>
              <a:buFont typeface="Futura Bk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2004840" indent="-342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2004840" indent="-342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2004840" indent="-342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e6f72"/>
                </a:solidFill>
                <a:latin typeface="Futura B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e6f72"/>
                </a:solidFill>
                <a:latin typeface="Futura B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4"/>
          </p:nvPr>
        </p:nvSpPr>
        <p:spPr>
          <a:xfrm>
            <a:off x="2750760" y="6638400"/>
            <a:ext cx="390852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e6f72"/>
                </a:solidFill>
                <a:latin typeface="Futura B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e6f72"/>
                </a:solidFill>
                <a:latin typeface="Futura B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822492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6f72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CEC5-B9FE-4589-B307-F48FF355E9D6}" type="slidenum">
              <a:rPr b="0" lang="en-US" sz="1200" spc="-1" strike="noStrike">
                <a:solidFill>
                  <a:srgbClr val="6e6f72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p.com/servers/proliantdl180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brent.allen@hp.com" TargetMode="External"/><Relationship Id="rId3" Type="http://schemas.openxmlformats.org/officeDocument/2006/relationships/hyperlink" Target="mailto:tim.golden@hp.com" TargetMode="External"/><Relationship Id="rId4" Type="http://schemas.openxmlformats.org/officeDocument/2006/relationships/hyperlink" Target="mailto:tony.bunn@hp.com" TargetMode="External"/><Relationship Id="rId5" Type="http://schemas.openxmlformats.org/officeDocument/2006/relationships/hyperlink" Target="mailto:naren@hp.com" TargetMode="External"/><Relationship Id="rId6" Type="http://schemas.openxmlformats.org/officeDocument/2006/relationships/hyperlink" Target="mailto:Iekazu.okano@hp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7040" y="846000"/>
          <a:ext cx="8886960" cy="6012000"/>
        </p:xfrm>
        <a:graphic>
          <a:graphicData uri="http://schemas.openxmlformats.org/drawingml/2006/table">
            <a:tbl>
              <a:tblPr/>
              <a:tblGrid>
                <a:gridCol w="2949840"/>
                <a:gridCol w="2973240"/>
                <a:gridCol w="2963880"/>
              </a:tblGrid>
              <a:tr h="60120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1. What is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is an Intel-based, 2P, 2U form factor, rack-mount server with up to two Intel Xeon 5200 or 5400 sequence dual-core or quad-core processor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n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Futura Md"/>
                        </a:rPr>
                        <a:t>11 February 2008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HP will announce the ProLiant DL180 G5 server as follow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Processor refres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— Up to two (2) Intel Xeon 5400 sequence quad-core processors running up to 2.66GHz with 8MB Level 2 Cach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Option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2. At-a-g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Available processor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— Intel Xeon E5200 or E5400 sequence dual-core or quad-core processor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430 2.66GHz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– 8MB quad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420 2.50GHz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– 8MB quad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405 2.00GHz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– 8MB quad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Model E5205 1.86GHz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– dual c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Processor capacity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2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Form factor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— 2U, r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Memory type, protection, and capacity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PC2-5300 DDR2, registered ECC, 16GB maximum mem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I/O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One available low profile x8 PCI-Express slot with 8 lanes using a low profile riser, two full height/ full length riser options: Option1: full-length/full-height PCI-Express with two x8 slots with two x4 lanes (standard) Option2: full-length/full-height riser with 2x PCI-X slots (option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Storage type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B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Hot plug SATA / S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Storage controller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HP Embedded SATA RAID controller on non-hot Plug SATA models, HP 8 internal port SAS HBA with RAID 0,1 on Hot Plug SAS/SATA Models, HP Smart Array E200 Controller, HP Smart Array P400 Controller, HP Smart Array P800 Controller, HP SC11Xe and SC44Ge Host Bus Adap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Remote management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HP Lights-Out 100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High availability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750W and 1200W power supply (redundant non-hot Plug, auto switching), 1200W power supply is option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Hv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arranty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— 1-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3. Customer 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Hv"/>
                        </a:rPr>
                        <a:t>Look for customers with the following business challeng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Growing businesses with expandability requirements who need </a:t>
                      </a: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Hv"/>
                          <a:ea typeface="ＭＳ Ｐゴシック"/>
                        </a:rPr>
                        <a:t>large internal storage capacity. </a:t>
                      </a:r>
                      <a:r>
                        <a:rPr b="0" i="1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h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includes a mixture of PCI-X and x8 PCI-Express I/O slots which allows users to choose the expansion card technology. The DL180 G5 also includes SAS and SATA internal storage option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 which provides up to 3.6TB and 9TB of storage, respectively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09440">
                        <a:lnSpc>
                          <a:spcPct val="100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Customer benefit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rovides customers with the option to grow their hardware requirements as their business grow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Small and medium businesses adding low-cost/high-capacity storage technologies. </a:t>
                      </a:r>
                      <a:r>
                        <a:rPr b="0" i="1" lang="en-US" sz="10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h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offers customers the flexibility of using universal hard drives for storage, either 12 – 300GB SAS drives or 12 – 750GB SATA drive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09440">
                        <a:lnSpc>
                          <a:spcPct val="100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Customer benefit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mmonality focus, within and across platforms, increases IT productivit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100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  <a:ea typeface="ＭＳ Ｐゴシック"/>
                        </a:rPr>
                        <a:t>Space-constrained corporate datacenters and large scale service providers. 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Wh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Aft>
                          <a:spcPts val="275"/>
                        </a:spcAft>
                        <a:buClr>
                          <a:srgbClr val="6e6f72"/>
                        </a:buClr>
                        <a:buSzPct val="90000"/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fits all the storage, memory, and I/O features into a 2U rack. Features such as an a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mbidextrous cable management, quick deploy rail solution, q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ick release levers, and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ol-free modular components provide fast access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Ｐゴシック"/>
                        </a:rPr>
                        <a:t>making racking easier in space constrained datacenter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100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Customer benefit</a:t>
                      </a:r>
                      <a:r>
                        <a:rPr b="0" i="1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DL180 G5 server is an affordable, space-saving solution that is ideal for customers who need to maximize space. Features enhance reliability and simplifies configuration, maintenance, and provides easy access to components.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4. Qualifying the custo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Green light deals (must wi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st conscious SMB or growing busin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eeds expandability and large storage capacity at a low c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nterested in a rack mount so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Yellow light deals (more qualifi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t spaced constrain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oes not need large storage capa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Red light deals (walk away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85000"/>
                        </a:lnSpc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t interested in a rack mount so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8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5. Further information/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8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or QuickSpecs, white papers, and technical documentation, go to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DL80 G5 on 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8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eb5f01"/>
                          </a:solidFill>
                          <a:uFillTx/>
                          <a:latin typeface="Futura Hv"/>
                          <a:hlinkClick r:id="rId1"/>
                        </a:rPr>
                        <a:t>http://www.hp.com/servers/proliantdl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ProLiant DL180 G5 Server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0"/>
            <a:ext cx="257040" cy="6858000"/>
            <a:chOff x="0" y="0"/>
            <a:chExt cx="257040" cy="6858000"/>
          </a:xfrm>
        </p:grpSpPr>
        <p:sp>
          <p:nvSpPr>
            <p:cNvPr id="131" name=""/>
            <p:cNvSpPr/>
            <p:nvPr/>
          </p:nvSpPr>
          <p:spPr>
            <a:xfrm>
              <a:off x="0" y="914400"/>
              <a:ext cx="257040" cy="59436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0"/>
              <a:ext cx="257040" cy="847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74120" y="6534000"/>
            <a:ext cx="3416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  <a:ea typeface="Arial Unicode MS"/>
              </a:rPr>
              <a:t>© 2007 Hewlett-Packard Development Company, L.P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5" name=""/>
          <p:cNvSpPr/>
          <p:nvPr/>
        </p:nvSpPr>
        <p:spPr>
          <a:xfrm>
            <a:off x="6167520" y="3286080"/>
            <a:ext cx="142920" cy="1429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"/>
          <p:cNvSpPr/>
          <p:nvPr/>
        </p:nvSpPr>
        <p:spPr>
          <a:xfrm>
            <a:off x="6138720" y="4152960"/>
            <a:ext cx="142920" cy="142920"/>
          </a:xfrm>
          <a:prstGeom prst="ellipse">
            <a:avLst/>
          </a:prstGeom>
          <a:solidFill>
            <a:srgbClr val="f2a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7" name=""/>
          <p:cNvSpPr/>
          <p:nvPr/>
        </p:nvSpPr>
        <p:spPr>
          <a:xfrm>
            <a:off x="6148440" y="4762440"/>
            <a:ext cx="142920" cy="1429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-2866320" y="3707280"/>
            <a:ext cx="59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Quick reference card:</a:t>
            </a: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 HP and channel partner use onl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79760" y="5530680"/>
            <a:ext cx="1835280" cy="91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Febr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ProLiant DL180 G5 Server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257040" cy="6858000"/>
            <a:chOff x="0" y="0"/>
            <a:chExt cx="257040" cy="6858000"/>
          </a:xfrm>
        </p:grpSpPr>
        <p:sp>
          <p:nvSpPr>
            <p:cNvPr id="142" name=""/>
            <p:cNvSpPr/>
            <p:nvPr/>
          </p:nvSpPr>
          <p:spPr>
            <a:xfrm>
              <a:off x="0" y="914400"/>
              <a:ext cx="257040" cy="59436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0"/>
              <a:ext cx="257040" cy="847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74120" y="6534000"/>
            <a:ext cx="3416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  <a:ea typeface="Arial Unicode MS"/>
              </a:rPr>
              <a:t>© 2007 Hewlett-Packard Development Company, L.P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036800"/>
          <a:ext cx="8224920" cy="5574960"/>
        </p:xfrm>
        <a:graphic>
          <a:graphicData uri="http://schemas.openxmlformats.org/drawingml/2006/table">
            <a:tbl>
              <a:tblPr/>
              <a:tblGrid>
                <a:gridCol w="1604880"/>
                <a:gridCol w="3241800"/>
                <a:gridCol w="3378240"/>
              </a:tblGrid>
              <a:tr h="231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HP ProLiant DL180 G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Dell PowerEdge 29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Form facto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Rack, 2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Rack, 2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Processor option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Intel Xeon 5400 (quad core) or 5200 (dual core) sequ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Intel Xeon 5300 (quad-core) or 5100 (dual-core) sequ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ax processor cor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8 (5400 sequence), 4 (5200 seque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8 (5300 sequence), 4 (5100 seque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31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Cach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8MB (5400 seque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5300 2x4MB, 5100 4MB, 5000 Sequence 2x2M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emory min/ma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1GB / 16G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1GB / 32G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emory typ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DDR2-667MH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FBD 533MHz or 667MH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Memory protec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Registered E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E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Disk typ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SATA, S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SATA, S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4032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Bays inform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upport for one (optional) multi-bay D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ptional floppy (USB only, USB ke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Hard drive b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Disk max inter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3.6TB SAS, 9TB S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4.5T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3960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RAID suppor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Optio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457200"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Optio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2239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I/O technolog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PCI-Express, PCI-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  <a:ea typeface="ＭＳ 明朝"/>
                        </a:rPr>
                        <a:t>PCI-Express, PCI-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960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I/O slot typ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ne low profile x8 PCI-Express slot with 8 lanes using a low profile riser, two full height/ full length riser options: Option1: full-length/full-height PCI-Express with two x8 slots with two x4 lanes (standard) Option2: full-length/full-height riser with 2x PCI-X slots (option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ree PCI slots, either PCIe riser with three PCI-Express slots (one x4 (x8 connector) and two x8) or two PCI-X 64-bit/133MHz and one PCI-Express x8 slo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81468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Futura Hv"/>
                          <a:ea typeface="ＭＳ 明朝"/>
                        </a:rPr>
                        <a:t>High availability (hot swap, redundant power supply or fan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750W or 1200 W power supply (redundant non-hot plug, auto switching), 1200W is 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C configuration with standard single or redundant 750W hot-plug auto-switching universal 110/220V AC power supplies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C configuration with redundant hot plug -48 to -60 V20 A DC power suppl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ab01">
                        <a:alpha val="25000"/>
                      </a:srgbClr>
                    </a:solidFill>
                  </a:tcPr>
                </a:tc>
              </a:tr>
              <a:tr h="9716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  <a:ea typeface="ＭＳ 明朝"/>
                        </a:rPr>
                        <a:t>Regional conta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WW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Brent Alle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2"/>
                        </a:rPr>
                        <a:t>brent.allen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S —  Tim Golden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3"/>
                        </a:rPr>
                        <a:t>tim.golden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EMEA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Tony Bun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4"/>
                        </a:rPr>
                        <a:t>tony.bunn@hp.com</a:t>
                      </a: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Futura Bk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P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Naren Nuggehalli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5"/>
                        </a:rPr>
                        <a:t>naren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Japan — </a:t>
                      </a: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Iekazu Okano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, </a:t>
                      </a: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Bk"/>
                          <a:hlinkClick r:id="rId6"/>
                        </a:rPr>
                        <a:t>Iekazu.okano@hp.c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 rot="16200000">
            <a:off x="-2866320" y="3707280"/>
            <a:ext cx="59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Quick reference card:</a:t>
            </a: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 HP and channel partner use onl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Februar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3:06:50Z</dcterms:created>
  <dc:creator>Centers of Expertise, HP </dc:creator>
  <dc:description>© Copyright 1996, 1997–2006 Hewlett-Packard Development Company, L.P.; HP Restricted
</dc:description>
  <dc:language>en-US</dc:language>
  <cp:lastModifiedBy>BOB BURDEN</cp:lastModifiedBy>
  <cp:lastPrinted>2005-02-04T03:07:35Z</cp:lastPrinted>
  <dcterms:modified xsi:type="dcterms:W3CDTF">2008-01-17T18:36:15Z</dcterms:modified>
  <cp:revision>269</cp:revision>
  <dc:subject/>
  <dc:title>New Product Introduction Quick Reference C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