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CE3FDF-026C-421A-83CF-5973912DF1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454BCD-EA4D-41A7-BC2D-49C7C9387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659B16-F6B7-4B8D-9E16-B87695E57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B80E9-A016-4488-8B84-0B91E5D46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BACBCD-1C80-4D06-BECB-0A015823A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EA5D3-11E7-4BEC-8260-B94DC83FE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AD8C6-9003-42FD-8658-781E60F29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0492F-CF69-4C83-8352-C6F72AFDA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97A36-84AA-4F4B-A67A-8563B4591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D7F773-CF13-4DA9-B27B-5EC18C336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5A3895-2B19-4203-BEC7-DCA8DB8848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5306D8-55F7-4963-97DC-69ECAD32AB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8537-97E3-408D-90DE-D3000A91E518}"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1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Andy.bauman@hp.com" TargetMode="External"/><Relationship Id="rId3" Type="http://schemas.openxmlformats.org/officeDocument/2006/relationships/hyperlink" Target="mailto:Yan-fei.yang@hp.com" TargetMode="External"/><Relationship Id="rId4" Type="http://schemas.openxmlformats.org/officeDocument/2006/relationships/hyperlink" Target="mailto:Kwang-leng.seah@hp.com" TargetMode="External"/><Relationship Id="rId5" Type="http://schemas.openxmlformats.org/officeDocument/2006/relationships/hyperlink" Target="mailto:Seah-sae.iso@hp.com" TargetMode="External"/><Relationship Id="rId6" Type="http://schemas.openxmlformats.org/officeDocument/2006/relationships/hyperlink" Target="http://as.ideascp.com/cp/" TargetMode="External"/><Relationship Id="rId7" Type="http://schemas.openxmlformats.org/officeDocument/2006/relationships/hyperlink" Target="http://as.ideascp.com/cp/" TargetMode="External"/><Relationship Id="rId8" Type="http://schemas.openxmlformats.org/officeDocument/2006/relationships/hyperlink" Target="http://as.ideascp.com/cp/"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846000"/>
          <a:ext cx="8886960" cy="6012000"/>
        </p:xfrm>
        <a:graphic>
          <a:graphicData uri="http://schemas.openxmlformats.org/drawingml/2006/table">
            <a:tbl>
              <a:tblPr/>
              <a:tblGrid>
                <a:gridCol w="2949840"/>
                <a:gridCol w="2973240"/>
                <a:gridCol w="2963880"/>
              </a:tblGrid>
              <a:tr h="6304680">
                <a:tc>
                  <a:txBody>
                    <a:bodyPr lIns="45720" rIns="45720" tIns="46800" bIns="46800" anchor="t">
                      <a:no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HP ProLiant ML110 G5 (ML110 G5) is an Intel-based, single processor, entry-level, 4U form factor tower server . It is ideal for single-application IT infrastructure, web, and edge-of-network applications.</a:t>
                      </a:r>
                      <a:endParaRPr b="0" lang="en-US" sz="9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2 November 2007</a:t>
                      </a:r>
                      <a:r>
                        <a:rPr b="0" lang="en-US" sz="900" spc="-1" strike="noStrike">
                          <a:solidFill>
                            <a:srgbClr val="000000"/>
                          </a:solidFill>
                          <a:latin typeface="Futura Bk"/>
                        </a:rPr>
                        <a:t>, HP will announce the ML310 G5 as follows:</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Quad-Core Intel® Xeon® 3200 processor sequence</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M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1b5"/>
                          </a:solidFill>
                          <a:latin typeface="Futura Md"/>
                        </a:rPr>
                        <a:t>Options</a:t>
                      </a:r>
                      <a:r>
                        <a:rPr b="0" lang="en-US" sz="900" spc="-1" strike="noStrike">
                          <a:solidFill>
                            <a:srgbClr val="000000"/>
                          </a:solidFill>
                          <a:latin typeface="Futura Bk"/>
                        </a:rPr>
                        <a:t> — iLO2 functionality over shared system NIC in support of remote management</a:t>
                      </a:r>
                      <a:endParaRPr b="0" lang="en-US" sz="900" spc="-1" strike="noStrike">
                        <a:solidFill>
                          <a:srgbClr val="000000"/>
                        </a:solidFill>
                        <a:latin typeface="Futura Bk"/>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single, dual-core, or quad-core processors:</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Quad-Core Intel® Xeon® 32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Xeon® 30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Core™2 E4400 processor,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Pentium® E2160 processor, or</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ngle-Core Intel® Celeron® 420 processor</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1P</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optimized</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a:t>
                      </a:r>
                      <a:r>
                        <a:rPr b="0" lang="en-US" sz="900" spc="-1" strike="noStrike">
                          <a:solidFill>
                            <a:srgbClr val="000000"/>
                          </a:solidFill>
                          <a:latin typeface="Futura Bk"/>
                        </a:rPr>
                        <a:t> — Up to 8GB PC2-6400 unbuffered DDR2 ECC 800MHz</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0000"/>
                          </a:solidFill>
                          <a:latin typeface="Futura Bk"/>
                        </a:rPr>
                        <a:t> — Up to 5 Total: (1) PCI Express x8, (3) PCI Express x1, Optional Extender Board for (1) 64-bit/100MHz PCI-X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non-hot plug SCSI</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s</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Hv"/>
                        </a:rPr>
                        <a:t>SAS</a:t>
                      </a:r>
                      <a:r>
                        <a:rPr b="0" lang="en-US" sz="900" spc="-1" strike="noStrike">
                          <a:solidFill>
                            <a:srgbClr val="000000"/>
                          </a:solidFill>
                          <a:latin typeface="Futura Bk"/>
                        </a:rPr>
                        <a:t> — HP SC40Ge SAS HBA with RAID 0,1 in a PCI Express slot; </a:t>
                      </a:r>
                      <a:r>
                        <a:rPr b="0" lang="en-US" sz="900" spc="-1" strike="noStrike">
                          <a:solidFill>
                            <a:srgbClr val="000000"/>
                          </a:solidFill>
                          <a:latin typeface="Futura Hv"/>
                        </a:rPr>
                        <a:t>SATA</a:t>
                      </a:r>
                      <a:r>
                        <a:rPr b="0" lang="en-US" sz="900" spc="-1" strike="noStrike">
                          <a:solidFill>
                            <a:srgbClr val="000000"/>
                          </a:solidFill>
                          <a:latin typeface="Futura Bk"/>
                        </a:rPr>
                        <a:t> —Embedded SATA with integrated SATA RAID 0,1</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Lights Out 100c Remote Management Card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Redundant, hot plug power supply</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Hardware diagnostic support and repair is available for one year from date of purchase. Support for software and initial setup is available for 90 days from date of purchase. SATA hard drives have a one year warranty</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lvl="1" marL="233280" indent="-118800">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best value and well-suited for:</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pendable, easy-to-use workgroup server for hosting basic file/print for 20 or fewer client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latform for light application hosting, shared web access, groupware, or small database application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ntry-level for small businesse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me price as misapplied desktop PCs</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Look for customers with the following business requirements:</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Ｐゴシック"/>
                        </a:rPr>
                        <a:t>Utilizing one-way ProLiant servers for general purpose or entry-level systems. </a:t>
                      </a:r>
                      <a:r>
                        <a:rPr b="0" i="1" lang="en-US" sz="900" spc="-1" strike="noStrike">
                          <a:solidFill>
                            <a:srgbClr val="00558e"/>
                          </a:solidFill>
                          <a:latin typeface="Futura Hv"/>
                          <a:ea typeface="ＭＳ Ｐゴシック"/>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as a limited budget for server hardware, but Supporting locations with a limited IT staff.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remotely managed for remote sites or second offices.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Obtaining data protection at an affordable price.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ying on the server to run industry-standard applications.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urchasing an easy-to-own server.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Futura Hv"/>
                        </a:rPr>
                        <a:t>Green light deals (must wi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enterprise class performance and feature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remote management capability</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Requires consistent, reliable server performance at an affordable price</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9e01"/>
                          </a:solidFill>
                          <a:latin typeface="Futura Hv"/>
                        </a:rPr>
                        <a:t> </a:t>
                      </a:r>
                      <a:r>
                        <a:rPr b="0" lang="en-US" sz="900" spc="-1" strike="noStrike">
                          <a:solidFill>
                            <a:srgbClr val="dd9e01"/>
                          </a:solidFill>
                          <a:latin typeface="Futura Hv"/>
                        </a:rPr>
                        <a:t>Yellow light deals (more qualificatio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a growing small business with a very limited budget for hardware but requires high availability to meet the needs of their client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ensure their hardware purchase has a long lifecycle to protect their investment</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Futura Hv"/>
                        </a:rPr>
                        <a:t>Red light deals (walk away) </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performing back-ups and does not feel their business or infrastructure is adversely impacted by their process</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10 G5 on HP.com</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1"/>
                        </a:rPr>
                        <a:t>http://www.hp.com/servers/proliantml11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HP ProLiant ML110 G5 Server</a:t>
            </a:r>
            <a:endParaRPr b="0" lang="en-US" sz="28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6" name="" descr=""/>
          <p:cNvPicPr/>
          <p:nvPr/>
        </p:nvPicPr>
        <p:blipFill>
          <a:blip r:embed="rId3"/>
          <a:stretch/>
        </p:blipFill>
        <p:spPr>
          <a:xfrm>
            <a:off x="5581800" y="0"/>
            <a:ext cx="542880" cy="106524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000000"/>
                </a:solidFill>
                <a:latin typeface="Futura Bk"/>
              </a:rPr>
              <a:t>HP ProLiant ML310 G5 Server</a:t>
            </a:r>
            <a:endParaRPr b="0" lang="en-US" sz="2800" spc="-1" strike="noStrike">
              <a:solidFill>
                <a:srgbClr val="000000"/>
              </a:solidFill>
              <a:latin typeface="Futura Bk"/>
            </a:endParaRPr>
          </a:p>
        </p:txBody>
      </p:sp>
      <p:grpSp>
        <p:nvGrpSpPr>
          <p:cNvPr id="138" name=""/>
          <p:cNvGrpSpPr/>
          <p:nvPr/>
        </p:nvGrpSpPr>
        <p:grpSpPr>
          <a:xfrm>
            <a:off x="0" y="0"/>
            <a:ext cx="257040" cy="6858000"/>
            <a:chOff x="0" y="0"/>
            <a:chExt cx="257040" cy="6858000"/>
          </a:xfrm>
        </p:grpSpPr>
        <p:sp>
          <p:nvSpPr>
            <p:cNvPr id="13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1" name="" descr=""/>
          <p:cNvPicPr/>
          <p:nvPr/>
        </p:nvPicPr>
        <p:blipFill>
          <a:blip r:embed="rId1"/>
          <a:srcRect l="0" t="0" r="11376" b="0"/>
          <a:stretch/>
        </p:blipFill>
        <p:spPr>
          <a:xfrm>
            <a:off x="8329680" y="101520"/>
            <a:ext cx="655560" cy="628560"/>
          </a:xfrm>
          <a:prstGeom prst="rect">
            <a:avLst/>
          </a:prstGeom>
          <a:ln w="0">
            <a:noFill/>
          </a:ln>
        </p:spPr>
      </p:pic>
      <p:sp>
        <p:nvSpPr>
          <p:cNvPr id="142"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3"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graphicFrame>
        <p:nvGraphicFramePr>
          <p:cNvPr id="144" name=""/>
          <p:cNvGraphicFramePr/>
          <p:nvPr/>
        </p:nvGraphicFramePr>
        <p:xfrm>
          <a:off x="399960" y="1036800"/>
          <a:ext cx="8586720" cy="5391000"/>
        </p:xfrm>
        <a:graphic>
          <a:graphicData uri="http://schemas.openxmlformats.org/drawingml/2006/table">
            <a:tbl>
              <a:tblPr/>
              <a:tblGrid>
                <a:gridCol w="962280"/>
                <a:gridCol w="2581200"/>
                <a:gridCol w="2609640"/>
                <a:gridCol w="2433600"/>
              </a:tblGrid>
              <a:tr h="2311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P ProLiant ML31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ell PowerEdge 84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BM System x320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latfor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5424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Operating syste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CO UNIX, SUSE Linux, NetWare,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fami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Core,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9558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20 (1.6GHz 35W), Pentium E2160 (1.8GHz 65W), Core 2 Duo E4400 (2.0GHz 65W), Xeon X3065 (2.33GHz 65W), Xeon X3075 (2.66GHz 65W), Xeon X3210 (2.13GHz 95W), Xeon X3220 (2.4GHz 95W)</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30 (1.8GHz), Pentium D 935 (3.2GHz), Pentium E2160 (1.8GHz)</a:t>
                      </a:r>
                      <a:br>
                        <a:rPr sz="900"/>
                      </a:br>
                      <a:r>
                        <a:rPr b="0" lang="en-US" sz="900" spc="-1" strike="noStrike">
                          <a:solidFill>
                            <a:srgbClr val="000000"/>
                          </a:solidFill>
                          <a:latin typeface="Futura Bk"/>
                        </a:rPr>
                        <a:t>Core 2 Duo (2.2GHz), Xeon 3040 (1.86GHz), Xeon 3050 (2.13GHz)</a:t>
                      </a:r>
                      <a:br>
                        <a:rPr sz="900"/>
                      </a:br>
                      <a:r>
                        <a:rPr b="0" lang="en-US" sz="900" spc="-1" strike="noStrike">
                          <a:solidFill>
                            <a:srgbClr val="000000"/>
                          </a:solidFill>
                          <a:latin typeface="Futura Bk"/>
                        </a:rPr>
                        <a:t>Xeon 3060 (2.4GHz), Xeon 3070 (2.66GHz), Xeon X3210 (2.13GHz)</a:t>
                      </a:r>
                      <a:br>
                        <a:rPr sz="900"/>
                      </a:br>
                      <a:r>
                        <a:rPr b="0" lang="en-US" sz="900" spc="-1" strike="noStrike">
                          <a:solidFill>
                            <a:srgbClr val="000000"/>
                          </a:solidFill>
                          <a:latin typeface="Futura Bk"/>
                        </a:rPr>
                        <a:t>Xeon X3220 (2.4GHz), Xeon X3230 (2.6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945 (3.4GHz), Pentium E2160 (1.8GHz)</a:t>
                      </a:r>
                      <a:br>
                        <a:rPr sz="900"/>
                      </a:br>
                      <a:r>
                        <a:rPr b="0" lang="en-US" sz="900" spc="-1" strike="noStrike">
                          <a:solidFill>
                            <a:srgbClr val="000000"/>
                          </a:solidFill>
                          <a:latin typeface="Futura Bk"/>
                        </a:rPr>
                        <a:t>Xeon 3040 (1.87GHz), Xeon 3050 (2.13GHz), Xeon 3060 (2.4GHz), Xeon X3210 (2.13GHz), Xeon X3220 (2.4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Celeron), 1 x 1MB (Pen 2100), 1 x 2MB (Core 2 4000), 1 x 4MB (Xeon 3000) or 1 x 8MB (Xeon 3200) L2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L2 (Celeron), 2 x 2MB L2 (Pen D), 2MB (Core 2), 2MB or 4MB L2 (3000 Series) or 2 x 4MB L2 (X3200 Seri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2 x 2MB L2; Pentium E: 1MB L2; Xeon 3000: 2MB, 4MB L2; Xeon 3200: 8M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hipse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2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0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emor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controlle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port SAS (SAS models), embedded SATA (SATA/SAS model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maximum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4,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 (SATA on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AID 0, 1; Optional RAID 1+0, 5, 6</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RAID 0, 1, 5</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ot Swap: RAID 0,1</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 disk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O slot typ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x PCI Express x1, 1 x 64-bit, 100MHz PCI-X on optional extender board</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1 x PCI Express x1</a:t>
                      </a:r>
                      <a:br>
                        <a:rPr sz="900"/>
                      </a:br>
                      <a:r>
                        <a:rPr b="0" lang="en-US" sz="900" spc="-1" strike="noStrike">
                          <a:solidFill>
                            <a:srgbClr val="000000"/>
                          </a:solidFill>
                          <a:latin typeface="Futura Bk"/>
                        </a:rPr>
                        <a:t>2 x PCI-X 64-bit/133MHz, 1 x PCI 32-bit/33M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 x PCI 32-bit/33MHz, 2 x PCI-Express (one x1 and one x8)</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a:t>
                      </a:r>
                      <a:br>
                        <a:rPr sz="900"/>
                      </a:br>
                      <a:r>
                        <a:rPr b="0" lang="en-US" sz="900" spc="-1" strike="noStrike">
                          <a:solidFill>
                            <a:srgbClr val="ffffff"/>
                          </a:solidFill>
                          <a:latin typeface="Futura Hv"/>
                        </a:rPr>
                        <a:t>redundant power supply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o/No</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tandard</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6526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gridSpan="2">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a:t>
                      </a:r>
                      <a:r>
                        <a:rPr b="0" lang="en-US" sz="900" spc="-1" strike="noStrike">
                          <a:solidFill>
                            <a:srgbClr val="000000"/>
                          </a:solidFill>
                          <a:latin typeface="Futura Hv"/>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Andy.bauman@hp.com</a:t>
                      </a:r>
                      <a:r>
                        <a:rPr b="0" lang="en-US" sz="900" spc="-1" strike="noStrike">
                          <a:solidFill>
                            <a:srgbClr val="000000"/>
                          </a:solidFill>
                          <a:latin typeface="Futura Bk"/>
                        </a:rPr>
                        <a:t> — Houston, TX USA</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0000"/>
                          </a:solidFill>
                          <a:latin typeface="Futura Hv"/>
                        </a:rPr>
                        <a:t>Yan 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Yan-fei.yang@hp.com</a:t>
                      </a:r>
                      <a:r>
                        <a:rPr b="0" lang="en-US" sz="900" spc="-1" strike="noStrike">
                          <a:solidFill>
                            <a:srgbClr val="000000"/>
                          </a:solidFill>
                          <a:latin typeface="Futura Bk"/>
                        </a:rPr>
                        <a:t> — Meyrin, Switzerland</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sia Pacific: </a:t>
                      </a:r>
                      <a:r>
                        <a:rPr b="0" lang="en-US" sz="900" spc="-1" strike="noStrike">
                          <a:solidFill>
                            <a:srgbClr val="000000"/>
                          </a:solidFill>
                          <a:latin typeface="Futura Hv"/>
                        </a:rPr>
                        <a:t>Kwang Leng Seah</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Kwang-leng.seah@hp.com</a:t>
                      </a:r>
                      <a:r>
                        <a:rPr b="0" lang="en-US" sz="900" spc="-1" strike="noStrike">
                          <a:solidFill>
                            <a:srgbClr val="000000"/>
                          </a:solidFill>
                          <a:latin typeface="Futura Bk"/>
                        </a:rPr>
                        <a:t> — Singapore</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a:t>
                      </a:r>
                      <a:r>
                        <a:rPr b="0" lang="en-US" sz="900" spc="-1" strike="noStrike">
                          <a:solidFill>
                            <a:srgbClr val="000000"/>
                          </a:solidFill>
                          <a:latin typeface="Futura Hv"/>
                        </a:rPr>
                        <a:t>Seah Sae Is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Seah-sae.iso@hp.com</a:t>
                      </a:r>
                      <a:r>
                        <a:rPr b="0" lang="en-US" sz="900" spc="-1" strike="noStrike">
                          <a:solidFill>
                            <a:srgbClr val="000000"/>
                          </a:solidFill>
                          <a:latin typeface="Futura Bk"/>
                        </a:rPr>
                        <a:t> — Tokyo, Japan</a:t>
                      </a:r>
                      <a:endParaRPr b="0" lang="en-US" sz="900" spc="-1" strike="noStrike">
                        <a:solidFill>
                          <a:srgbClr val="000000"/>
                        </a:solidFill>
                        <a:latin typeface="Futura Bk"/>
                      </a:endParaRPr>
                    </a:p>
                  </a:txBody>
                  <a:tcPr anchor="t" marL="45720" marR="45720">
                    <a:lnL w="13680">
                      <a:solidFill>
                        <a:srgbClr val="ffffff"/>
                      </a:solidFill>
                    </a:lnL>
                    <a:lnR>
                      <a:noFill/>
                    </a:lnR>
                    <a:lnT w="13680">
                      <a:solidFill>
                        <a:srgbClr val="ffffff"/>
                      </a:solidFill>
                    </a:lnT>
                    <a:lnB>
                      <a:noFill/>
                    </a:lnB>
                    <a:solidFill>
                      <a:srgbClr val="aaabb0">
                        <a:alpha val="3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a:noFill/>
                    </a:lnL>
                    <a:lnR>
                      <a:noFill/>
                    </a:lnR>
                    <a:lnT w="13680">
                      <a:solidFill>
                        <a:srgbClr val="ffffff"/>
                      </a:solidFill>
                    </a:lnT>
                    <a:lnB>
                      <a:noFill/>
                    </a:lnB>
                    <a:solidFill>
                      <a:srgbClr val="aaabb0">
                        <a:alpha val="30000"/>
                      </a:srgbClr>
                    </a:solidFill>
                  </a:tcPr>
                </a:tc>
              </a:tr>
            </a:tbl>
          </a:graphicData>
        </a:graphic>
      </p:graphicFrame>
      <p:sp>
        <p:nvSpPr>
          <p:cNvPr id="145" name=""/>
          <p:cNvSpPr/>
          <p:nvPr/>
        </p:nvSpPr>
        <p:spPr>
          <a:xfrm>
            <a:off x="7391520" y="5878440"/>
            <a:ext cx="1562040" cy="523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ource: </a:t>
            </a:r>
            <a:r>
              <a:rPr b="0" lang="en-US" sz="900" spc="-1" strike="noStrike">
                <a:solidFill>
                  <a:srgbClr val="000000"/>
                </a:solidFill>
                <a:latin typeface="Futura Hv"/>
              </a:rPr>
              <a:t>Competitive Profiles:</a:t>
            </a:r>
            <a:endParaRPr b="0" lang="en-US" sz="9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6"/>
              </a:rPr>
              <a:t>http://</a:t>
            </a:r>
            <a:r>
              <a:rPr b="0" lang="en-US" sz="900" spc="-1" strike="noStrike" u="sng">
                <a:solidFill>
                  <a:srgbClr val="eb5f01"/>
                </a:solidFill>
                <a:uFillTx/>
                <a:latin typeface="Futura Bk"/>
                <a:hlinkClick r:id="rId7"/>
              </a:rPr>
              <a:t>as.ideascp.com</a:t>
            </a:r>
            <a:r>
              <a:rPr b="0" lang="en-US" sz="900" spc="-1" strike="noStrike" u="sng">
                <a:solidFill>
                  <a:srgbClr val="eb5f01"/>
                </a:solidFill>
                <a:uFillTx/>
                <a:latin typeface="Futura Bk"/>
                <a:hlinkClick r:id="rId8"/>
              </a:rPr>
              <a:t>/cp/</a:t>
            </a:r>
            <a:endParaRPr b="0" lang="en-US" sz="9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5:31Z</dcterms:modified>
  <cp:revision>243</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