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94863" cy="6858000"/>
  <p:notesSz cx="69342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BAB9-7C36-4F60-9937-50831D391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7200" y="413064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6C1F-D202-448C-A7AC-E55D9FE9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892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37F5-4A5E-4C38-A01D-C2F84343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324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892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720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324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892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9D9D-64D1-4DEE-9A0B-6F405C010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E8D5-8144-4CF2-BCF3-A0924C0C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EDF1-8D4D-453A-92E2-EA000BAE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76A1-B94D-4935-9F68-10795458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CBAD-EF5A-4CDF-867D-60594FDF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7200" y="609120"/>
            <a:ext cx="8238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54D2-9387-4BFE-B0C7-1573AB63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CAA9-CF91-45E5-BF18-BEF090CE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892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5C0E-A389-4DCE-AE19-50D7983A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B0AA-BD08-4006-B006-26278B5D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6840" y="6248520"/>
            <a:ext cx="201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1164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46560" y="6248520"/>
            <a:ext cx="201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8B71-EAEB-4FA8-AF1A-8EB1D2408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7440" y="4441680"/>
            <a:ext cx="19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26720" y="0"/>
            <a:ext cx="5477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8000/EMA12000 Fibre Channel Product 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21120" y="3324240"/>
            <a:ext cx="246852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Storage controllers, cache, batterie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622-B21   HSG80 RAID Array Controller w/ 256MB Cac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674-B21   HSx80 256MB cache (2*128MB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623-B21   HSG80 Cache bulkhead upgra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35823-B21   Single external cache batter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8124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8124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135360" y="532116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3809880"/>
            <a:ext cx="1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225440" y="533520"/>
            <a:ext cx="7920" cy="21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91200" y="552600"/>
            <a:ext cx="0" cy="24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859880" y="6391440"/>
            <a:ext cx="18334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0" y="5435640"/>
            <a:ext cx="17892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040" y="3724200"/>
            <a:ext cx="239400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Supported Hard Dri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28939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2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2671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418-B22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2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2673-B22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3065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2 SCSI 7200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8144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2 SCSI 7200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96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6.4GB Ultra3 SCSI 10K RPM 1</a:t>
            </a:r>
            <a:r>
              <a:rPr b="0" lang="en-US" sz="7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649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6” Drive Extenders (Pack of 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94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72.8GB Ultra3 SCSI 10K RPM 1.6”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5200" y="5030640"/>
            <a:ext cx="2310120" cy="17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Compaq 9000 Series Rack, option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3-B22  9142 42U Cab (opal) No PDU- Shock Pall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4-B22  9136 -36U Cab (opal) No PDU- Shock Pallet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5-B22  9122 -22U Cab (opal) No PDU- Shock Pall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70-B21 Side Pan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73-B21 Rack Stabiliz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9-B21 Multi-Bay K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77/678-B21 Fan Kit 110/220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9940-B21 Blank Panel Kit (Qty 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95363-002 PDU DOM 16 Amp - Zero 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6-20P  PDU supports 6 p/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95363-003 PDU DOM 32 Amp - Zero 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 ft L6-30P  PDU supports 6 p/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rder 91xx  with 1 or 2 PD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Not all options show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833480" y="5249880"/>
            <a:ext cx="574920" cy="1474560"/>
            <a:chOff x="1833480" y="5249880"/>
            <a:chExt cx="574920" cy="1474560"/>
          </a:xfrm>
        </p:grpSpPr>
        <p:sp>
          <p:nvSpPr>
            <p:cNvPr id="55" name=""/>
            <p:cNvSpPr/>
            <p:nvPr/>
          </p:nvSpPr>
          <p:spPr>
            <a:xfrm>
              <a:off x="1833480" y="5249880"/>
              <a:ext cx="574920" cy="14079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3480" y="6670440"/>
              <a:ext cx="150120" cy="525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58280" y="6672240"/>
              <a:ext cx="149760" cy="522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761120" y="5326200"/>
            <a:ext cx="7275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ompa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9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e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R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t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OPAL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33480" y="6119640"/>
            <a:ext cx="560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No C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63040" y="6399360"/>
            <a:ext cx="20192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ower Cord: IEC320-C13 to IEC320-C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35S-02    2.5M IEC cable, black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30B-02    2.5M IEC cable, gra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91080" y="5934240"/>
            <a:ext cx="210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40400" y="0"/>
            <a:ext cx="113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ugust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26240" y="2911320"/>
            <a:ext cx="18414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Multi-path Softw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5989-B21 Secure Path V3.1 for W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5991-B21 Secure Path V2.1 for SU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A/F500 Clus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sic 103250-B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3045960" y="2698560"/>
            <a:ext cx="3240" cy="22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6999120" y="3015720"/>
            <a:ext cx="8812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65160" y="5587920"/>
            <a:ext cx="210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7520" y="3049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608360" y="5454360"/>
            <a:ext cx="322596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6600" y="29844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CTO orders require Part Number118102-888 on the first 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23840"/>
            <a:ext cx="1384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del 2200 (M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ntroller Enclos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3440" y="1095480"/>
            <a:ext cx="430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1680" y="1711440"/>
            <a:ext cx="41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176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35820-B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906560"/>
            <a:ext cx="1230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(2) 180W Power Supplies, (3) Fans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UltraSCSI I/O Modules, EMU, (2) IEC C13-C14 Power Cords, RETMA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mounting k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480" y="2673360"/>
            <a:ext cx="688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95440" y="4191120"/>
            <a:ext cx="1682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U Model 43x0 Device Enclos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608000" y="4946760"/>
            <a:ext cx="3240" cy="19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11600" y="4873680"/>
            <a:ext cx="306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SCSI Cables - VHDCI to VHDCI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68256-B21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Meter,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68257-B21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2M, 189505-B21 3M,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400983-005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5M,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400985-010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0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643280" y="5506920"/>
            <a:ext cx="555840" cy="1226880"/>
            <a:chOff x="4643280" y="5506920"/>
            <a:chExt cx="555840" cy="1226880"/>
          </a:xfrm>
        </p:grpSpPr>
        <p:sp>
          <p:nvSpPr>
            <p:cNvPr id="80" name=""/>
            <p:cNvSpPr/>
            <p:nvPr/>
          </p:nvSpPr>
          <p:spPr>
            <a:xfrm>
              <a:off x="4643280" y="5506920"/>
              <a:ext cx="555840" cy="11718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43280" y="6689160"/>
              <a:ext cx="145080" cy="435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54040" y="6690600"/>
              <a:ext cx="144720" cy="432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5153040" y="5433840"/>
            <a:ext cx="2851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Modular Storage Cabinet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1-B21  42U  (opal) 60Hz w/ (26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2-B22  42U  (opal) 50Hz w/ (26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3-B21  36U  (opal) 60Hz w/ (22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4-B22  36U  (opal) 50Hz w/ (22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5-B21  22U  (opal) 60Hz w/ (12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6-B22  22U  (opal) 50Hz w/ (12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7-B21  41U  (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) 60Hz w/ (26) IEC320-C13 - C14 Power Cord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8-B22  41U  (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) 50Hz w/ (26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4160" y="5608800"/>
            <a:ext cx="69408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odular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abin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TO avai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10360" y="6446880"/>
            <a:ext cx="2515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ll Modular Storage Cabs include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ront &amp; back doors, Side panels, (2) 2U 24Amp PDUs each with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15’ L6-30P input Power Cord, (16) IEC320-C13 receptac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85160" y="598320"/>
            <a:ext cx="651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8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58800" y="1774800"/>
            <a:ext cx="1003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2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22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3) 435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ontrollers, Batt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nd Disks order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eparate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7104240" y="820800"/>
            <a:ext cx="632880" cy="947520"/>
            <a:chOff x="7104240" y="820800"/>
            <a:chExt cx="632880" cy="947520"/>
          </a:xfrm>
        </p:grpSpPr>
        <p:sp>
          <p:nvSpPr>
            <p:cNvPr id="89" name=""/>
            <p:cNvSpPr/>
            <p:nvPr/>
          </p:nvSpPr>
          <p:spPr>
            <a:xfrm>
              <a:off x="7104240" y="820800"/>
              <a:ext cx="632880" cy="9046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04240" y="1733400"/>
              <a:ext cx="164880" cy="338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72240" y="1734480"/>
              <a:ext cx="164880" cy="338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8620560" y="368280"/>
            <a:ext cx="9928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MA12000 Bl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687520" y="2097000"/>
            <a:ext cx="100332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3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41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3) 435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ontrollers, Batt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nd Disks order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eparate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799480" y="561960"/>
            <a:ext cx="633240" cy="1550880"/>
            <a:chOff x="8799480" y="561960"/>
            <a:chExt cx="633240" cy="1550880"/>
          </a:xfrm>
        </p:grpSpPr>
        <p:sp>
          <p:nvSpPr>
            <p:cNvPr id="95" name=""/>
            <p:cNvSpPr/>
            <p:nvPr/>
          </p:nvSpPr>
          <p:spPr>
            <a:xfrm>
              <a:off x="8799480" y="561960"/>
              <a:ext cx="633240" cy="14810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799480" y="2055600"/>
              <a:ext cx="164880" cy="558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267840" y="2057400"/>
              <a:ext cx="164880" cy="554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 flipH="1" flipV="1">
            <a:off x="7838640" y="3022560"/>
            <a:ext cx="1260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6840" y="5442120"/>
            <a:ext cx="190296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FC Storage Area Network Compon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FC  SAN Switch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8223-B21  FC SAN Switch 16 por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8222-B21  FC SAN Switch 8 por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219-B21  FC SAN Switch 8-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7365-B21  8/16 SAN Switch Brac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0407-B21  8/16 SAN Switch Power o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BICs, Connection Ki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61-B21 Optical Short Wave GB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9-B21 Kit 3 SW  GBIC, 2-2M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96-B21 Kit 2 SW GBIC, 2-2M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7508-B21 Optical Long Wave GB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520" y="576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71440" y="523800"/>
            <a:ext cx="5862600" cy="23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Platform kit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required per platform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, adapter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per host connection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O.S. Version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G80 SFT Kit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FC Adapters(AKA);Bu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AC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Multi Path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igh Availability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FC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NT X86 NT4.0/W2K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1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79-B21(DS-KGPSA-CB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ecure Path V2.2.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MSCSV1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, Loop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T   4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6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4-001 (KGPSA-BC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ecure Path V2.2.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MSCSV1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u64 4.0F/5.0A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3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8794-B21(DS-KGPSA-CA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 Tru64 5.0A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uCluster 1.6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u64 UNIX 4.0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Configured and ordered through CSS only)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u64 UNIX 5.0A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3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8794-B21(KGPSA-CA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 OS    (NOT YET AVAILABLE)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penVMS 7.2-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5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8794-B21(DS-KGPSA-CA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 O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penVMS Cluster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  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penVMS 7.2-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4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4-001(KGPSA-BC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 O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penVMS Cluster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olaris 2.6, 7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4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3503-001(DS-SWSA4-SC); SBU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ecure Path  V2.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irstWatch onV2.6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, 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6-001(SWSA4-PC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VCS V1.01 on V2.6,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.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etWare  4.2,5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9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186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CSV1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GI IRIX 6.5..3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6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rigin 2000 SGI XT-FC-2P:XIO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rigin 200 SGI PCI-FC-IP;PCI (requires X-F-OE-KIT (MIA)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HP-UX 10.2, 11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7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HP9000/800 K Class A3404A;HSC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         Pvlinks in HP-UX 10.2 MC Service Guard Switch,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HP9000/800 D Class A3591A;GS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BM AIX 4.2.1, 4.3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8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9841-B21 PCI for RS/600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HACMP V4.3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nux Alpha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0088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7432-001 PCI for Linux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nux ProLian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0088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7432-001 PCI for Linux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25800" y="2685960"/>
            <a:ext cx="2828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SG80 Array Controller Softwar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(1 per control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7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V8.5G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-AL Softwa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7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V8.5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-AL/SW  Softwar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0091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V8.5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/SW Software w/CLONE+SNAPSHOT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8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S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V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/SW Data Replication Softwa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1809720" y="4946400"/>
            <a:ext cx="1440" cy="19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05040" y="4930920"/>
            <a:ext cx="603576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3880" y="355680"/>
            <a:ext cx="119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Predefined 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956720" y="785880"/>
            <a:ext cx="632880" cy="1417320"/>
            <a:chOff x="7956720" y="785880"/>
            <a:chExt cx="632880" cy="1417320"/>
          </a:xfrm>
        </p:grpSpPr>
        <p:sp>
          <p:nvSpPr>
            <p:cNvPr id="107" name=""/>
            <p:cNvSpPr/>
            <p:nvPr/>
          </p:nvSpPr>
          <p:spPr>
            <a:xfrm>
              <a:off x="7956720" y="785880"/>
              <a:ext cx="632880" cy="13536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956720" y="2151000"/>
              <a:ext cx="164880" cy="507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24720" y="2152800"/>
              <a:ext cx="164880" cy="504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7856280" y="592200"/>
            <a:ext cx="950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MA12000 S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39720" y="2181240"/>
            <a:ext cx="1003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1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 36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 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  431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ontrollers, Batt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nd Disks ordere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eparate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04760" y="511344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FC Cables 50 Micron Short Wave Multi m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4457-B21/B22/B23/B24/B25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ptical cables (2/5/15/30/50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081240"/>
            <a:ext cx="3040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03381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214R (Ultra 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90209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14R - Single Bus, 14 Bay Device Enclosure, RETMA mounting kit, (2) Blowers, (1) Power Supply, (1) IEC-C13 to NEMA 5-15P Power Cord, (1) 3.7M VHD - VHD SCSI C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557520"/>
            <a:ext cx="3137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38151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- 4254 (Ultra 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90211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54R - Dual Bus, 14 Bay Device Enclosure, RETMA mounting kit, (2) Blowers,  (2) Power Supplies, (2) IEC-C13 to NEMA 5-15P Power Cords, (2) IEC-C13 to IEC-C14 Power Cords. (2) 3.7M VHD - VHD SCSI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500720"/>
            <a:ext cx="3030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4631-B2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10R - Single Bus, 10 Bay Device Enclosure, RETMA mounting kit, (2) Blowers, (2) Power Supplies, (1) IEC-C13 to NEMA 5-15P Power Cord, (1) 3.7M VHD - VHD SCSI C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834080"/>
            <a:ext cx="1803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4630-B2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50R - Dual Bus, 10 Bay Device Enclosure, RETMA mounting kit, (2) Blowers, (2) Power Supplies (2) IEC-C13 to NEMA 5-15P Power Cords, (2) 3.7M VHD - VHD SCSI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24000" y="2805120"/>
            <a:ext cx="186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U Model 42x4, 43x4 Device Enclos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05680" y="971640"/>
            <a:ext cx="622440" cy="19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37360" y="939960"/>
            <a:ext cx="584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12160" y="1181160"/>
            <a:ext cx="61596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24760" y="12063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3 dual bus 14-bay drive enclos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50240" y="1066680"/>
            <a:ext cx="635040" cy="19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81920" y="1035000"/>
            <a:ext cx="584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956720" y="1276200"/>
            <a:ext cx="622080" cy="5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69320" y="1301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6 single bus 14-bay drive enclos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801560" y="3359160"/>
            <a:ext cx="1003320" cy="2876760"/>
            <a:chOff x="7801560" y="3359160"/>
            <a:chExt cx="1003320" cy="2876760"/>
          </a:xfrm>
        </p:grpSpPr>
        <p:grpSp>
          <p:nvGrpSpPr>
            <p:cNvPr id="127" name=""/>
            <p:cNvGrpSpPr/>
            <p:nvPr/>
          </p:nvGrpSpPr>
          <p:grpSpPr>
            <a:xfrm>
              <a:off x="7918560" y="3543480"/>
              <a:ext cx="632880" cy="1540800"/>
              <a:chOff x="7918560" y="3543480"/>
              <a:chExt cx="632880" cy="1540800"/>
            </a:xfrm>
          </p:grpSpPr>
          <p:sp>
            <p:nvSpPr>
              <p:cNvPr id="128" name=""/>
              <p:cNvSpPr/>
              <p:nvPr/>
            </p:nvSpPr>
            <p:spPr>
              <a:xfrm>
                <a:off x="7918560" y="3543480"/>
                <a:ext cx="632880" cy="14716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18560" y="5027760"/>
                <a:ext cx="164880" cy="5544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386560" y="5029200"/>
                <a:ext cx="164880" cy="5508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7801560" y="3359160"/>
              <a:ext cx="1003320" cy="2876760"/>
              <a:chOff x="7801560" y="3359160"/>
              <a:chExt cx="1003320" cy="2876760"/>
            </a:xfrm>
          </p:grpSpPr>
          <p:sp>
            <p:nvSpPr>
              <p:cNvPr id="132" name=""/>
              <p:cNvSpPr/>
              <p:nvPr/>
            </p:nvSpPr>
            <p:spPr>
              <a:xfrm>
                <a:off x="7808760" y="3359160"/>
                <a:ext cx="95004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EMA12000 S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801560" y="5062680"/>
                <a:ext cx="1003320" cy="11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75994-B21/60Hz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1)  42U Modula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Storage Cab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1)   M2200 Enclosur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6)   4310 Enclosur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6) SCSI VHD-VH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Cabl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Controllers, Batteri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and Disks ordered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separatel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912080" y="3962520"/>
                <a:ext cx="635040" cy="196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943760" y="3930480"/>
                <a:ext cx="58428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(1) M2200 enclosur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918560" y="4172040"/>
                <a:ext cx="628560" cy="58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931160" y="4197240"/>
                <a:ext cx="59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6 single bus 10-bay drive enclosure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8807400" y="882720"/>
            <a:ext cx="622440" cy="19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39080" y="841320"/>
            <a:ext cx="584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807400" y="1092240"/>
            <a:ext cx="6224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826480" y="11174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3 single bus 14-bay drive enclos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8643960" y="3314880"/>
            <a:ext cx="1047240" cy="2927160"/>
            <a:chOff x="8643960" y="3314880"/>
            <a:chExt cx="1047240" cy="2927160"/>
          </a:xfrm>
        </p:grpSpPr>
        <p:grpSp>
          <p:nvGrpSpPr>
            <p:cNvPr id="143" name=""/>
            <p:cNvGrpSpPr/>
            <p:nvPr/>
          </p:nvGrpSpPr>
          <p:grpSpPr>
            <a:xfrm>
              <a:off x="8643960" y="3314880"/>
              <a:ext cx="1047240" cy="2927160"/>
              <a:chOff x="8643960" y="3314880"/>
              <a:chExt cx="1047240" cy="292716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8807400" y="3527280"/>
                <a:ext cx="633240" cy="1550880"/>
                <a:chOff x="8807400" y="3527280"/>
                <a:chExt cx="633240" cy="1550880"/>
              </a:xfrm>
            </p:grpSpPr>
            <p:grpSp>
              <p:nvGrpSpPr>
                <p:cNvPr id="145" name=""/>
                <p:cNvGrpSpPr/>
                <p:nvPr/>
              </p:nvGrpSpPr>
              <p:grpSpPr>
                <a:xfrm>
                  <a:off x="8807400" y="3527280"/>
                  <a:ext cx="633240" cy="1550880"/>
                  <a:chOff x="8807400" y="3527280"/>
                  <a:chExt cx="633240" cy="155088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8807400" y="3527280"/>
                    <a:ext cx="633240" cy="1481040"/>
                  </a:xfrm>
                  <a:prstGeom prst="rect">
                    <a:avLst/>
                  </a:pr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8807400" y="5020920"/>
                    <a:ext cx="164880" cy="5580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9275760" y="5022720"/>
                    <a:ext cx="164880" cy="5544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9" name=""/>
                <p:cNvSpPr/>
                <p:nvPr/>
              </p:nvSpPr>
              <p:spPr>
                <a:xfrm>
                  <a:off x="8807400" y="3543480"/>
                  <a:ext cx="622440" cy="19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813880" y="3746520"/>
                  <a:ext cx="615960" cy="272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8807400" y="4019400"/>
                  <a:ext cx="622440" cy="196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813880" y="4222800"/>
                  <a:ext cx="615960" cy="272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807400" y="4502160"/>
                  <a:ext cx="622440" cy="196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813880" y="4705200"/>
                  <a:ext cx="615960" cy="273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"/>
              <p:cNvSpPr/>
              <p:nvPr/>
            </p:nvSpPr>
            <p:spPr>
              <a:xfrm>
                <a:off x="8643960" y="3314880"/>
                <a:ext cx="9684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EMA12000 D1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664840" y="5068800"/>
                <a:ext cx="1026360" cy="11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75990-B21/60Hz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1)   42U Modula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Storage Cab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3)   M2200 Enclosur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9)   4354 Enclosur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18) SCSI VHD-VH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Cables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Controllers, Batteries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and Disks ordere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separatel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8807400" y="3508200"/>
              <a:ext cx="5842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(1) M2200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826480" y="3701880"/>
              <a:ext cx="59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3 dual bus 14-bay drive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807400" y="3984480"/>
              <a:ext cx="5842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(1) M2200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826480" y="4178160"/>
              <a:ext cx="59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3 dual bus 14-bay drive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807400" y="4467240"/>
              <a:ext cx="5842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(1) M2200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826480" y="4660920"/>
              <a:ext cx="59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3 dual bus 14-bay drive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038400" y="4133880"/>
            <a:ext cx="18766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Enclosure 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9826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214R Redundant power supp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9829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214R Dual Bus I/O Modu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0212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Ultra3 Single Bus I/O Modu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0213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Ultra3 Dual Bus I/0 Modu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M2_Front" descr=""/>
          <p:cNvPicPr/>
          <p:nvPr/>
        </p:nvPicPr>
        <p:blipFill>
          <a:blip r:embed="rId1"/>
          <a:stretch/>
        </p:blipFill>
        <p:spPr>
          <a:xfrm>
            <a:off x="160200" y="766800"/>
            <a:ext cx="1009800" cy="314280"/>
          </a:xfrm>
          <a:prstGeom prst="rect">
            <a:avLst/>
          </a:prstGeom>
          <a:ln w="0">
            <a:noFill/>
          </a:ln>
        </p:spPr>
      </p:pic>
      <p:pic>
        <p:nvPicPr>
          <p:cNvPr id="165" name="M2_Rear" descr=""/>
          <p:cNvPicPr/>
          <p:nvPr/>
        </p:nvPicPr>
        <p:blipFill>
          <a:blip r:embed="rId2"/>
          <a:stretch/>
        </p:blipFill>
        <p:spPr>
          <a:xfrm>
            <a:off x="160200" y="1355760"/>
            <a:ext cx="951120" cy="353880"/>
          </a:xfrm>
          <a:prstGeom prst="rect">
            <a:avLst/>
          </a:prstGeom>
          <a:ln w="0">
            <a:noFill/>
          </a:ln>
        </p:spPr>
      </p:pic>
      <p:pic>
        <p:nvPicPr>
          <p:cNvPr id="166" name="Star10c" descr=""/>
          <p:cNvPicPr/>
          <p:nvPr/>
        </p:nvPicPr>
        <p:blipFill>
          <a:blip r:embed="rId3"/>
          <a:stretch/>
        </p:blipFill>
        <p:spPr>
          <a:xfrm>
            <a:off x="125280" y="4133880"/>
            <a:ext cx="1155960" cy="380880"/>
          </a:xfrm>
          <a:prstGeom prst="rect">
            <a:avLst/>
          </a:prstGeom>
          <a:ln w="0">
            <a:noFill/>
          </a:ln>
        </p:spPr>
      </p:pic>
      <p:pic>
        <p:nvPicPr>
          <p:cNvPr id="167" name="Star14a" descr=""/>
          <p:cNvPicPr/>
          <p:nvPr/>
        </p:nvPicPr>
        <p:blipFill>
          <a:blip r:embed="rId4"/>
          <a:stretch/>
        </p:blipFill>
        <p:spPr>
          <a:xfrm>
            <a:off x="0" y="2705040"/>
            <a:ext cx="1257480" cy="4190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819440" y="3171960"/>
            <a:ext cx="5019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219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 SAN Switch 8-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16:16:58Z</dcterms:created>
  <dc:creator>Brian Montaquila</dc:creator>
  <dc:description/>
  <dc:language>en-US</dc:language>
  <cp:lastModifiedBy>GilmerK</cp:lastModifiedBy>
  <cp:lastPrinted>2000-07-18T16:33:02Z</cp:lastPrinted>
  <dcterms:modified xsi:type="dcterms:W3CDTF">2000-08-01T16:51:07Z</dcterms:modified>
  <cp:revision>72</cp:revision>
  <dc:subject/>
  <dc:title>No Slide Title</dc:title>
</cp:coreProperties>
</file>